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497-3E86-4E5E-9F95-3558604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B76-98A3-4BA0-82FA-3D2B7111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B4A-82E4-4139-9446-EA38A156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BE6-B008-4B7B-A0BF-18D84DF0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42F3-4DF2-4863-B637-394265A6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12C-D666-42F5-B843-65A79FD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34F-6023-45D0-9100-C0DEF7B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C5C4-1292-45C2-AAA5-64E3F2B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51F-564E-49E9-9902-DB9604F4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8FB-6320-4175-808D-1E4DB63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5BD3-1E56-43F1-B0B4-91A2B8B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789-F7E6-43CC-9C8C-7E2F0B88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18F-4862-46F4-B5D4-9C0BD76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52C6-D616-4899-95A1-3F45586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B874-F4C1-4C42-901C-FF54C06C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163A-F984-483A-BBB6-8B2D3B6A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303-AA4B-4310-9386-FB9DC18F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366-4C6C-4751-893E-80E6D076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C5A-9BB8-49BC-9858-0824982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AC4-6666-4D9B-8DA7-82CE4E8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355-CA05-42E4-AF4A-C1D3FAF2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0C7-3D10-450D-8028-E7405AA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C86-A578-4485-887C-E15DB21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E6F-DEF8-4B9E-A0DC-9B72D55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1F5-CB1D-46E4-9912-A3BDE3163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59F0-A2AB-4BD5-BCAD-A4C20AB93B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f/Benjamin_Franklin_by_Jean-Baptiste_Greuz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amesMadison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George-Washington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Hamilton_small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atifying the Constitu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4"/>
          <p:cNvSpPr/>
          <p:nvPr/>
        </p:nvSpPr>
        <p:spPr>
          <a:xfrm>
            <a:off x="3759120" y="2616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43" y="7268"/>
                </a:moveTo>
                <a:lnTo>
                  <a:pt x="10443" y="726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5"/>
          <p:cNvSpPr/>
          <p:nvPr/>
        </p:nvSpPr>
        <p:spPr>
          <a:xfrm>
            <a:off x="4792680" y="1246320"/>
            <a:ext cx="315720" cy="1085760"/>
          </a:xfrm>
          <a:custGeom>
            <a:avLst/>
            <a:gdLst/>
            <a:ahLst/>
            <a:rect l="l" t="t" r="r" b="b"/>
            <a:pathLst>
              <a:path w="877" h="3020">
                <a:moveTo>
                  <a:pt x="13320" y="3460"/>
                </a:moveTo>
                <a:cubicBezTo>
                  <a:pt x="13316" y="3569"/>
                  <a:pt x="13308" y="3657"/>
                  <a:pt x="13349" y="3759"/>
                </a:cubicBezTo>
                <a:cubicBezTo>
                  <a:pt x="13387" y="3854"/>
                  <a:pt x="13407" y="3934"/>
                  <a:pt x="13413" y="4037"/>
                </a:cubicBezTo>
                <a:cubicBezTo>
                  <a:pt x="13425" y="4235"/>
                  <a:pt x="13408" y="4433"/>
                  <a:pt x="13410" y="4631"/>
                </a:cubicBezTo>
                <a:cubicBezTo>
                  <a:pt x="13413" y="4912"/>
                  <a:pt x="13423" y="5195"/>
                  <a:pt x="13433" y="5476"/>
                </a:cubicBezTo>
                <a:cubicBezTo>
                  <a:pt x="13441" y="5715"/>
                  <a:pt x="13487" y="5932"/>
                  <a:pt x="13532" y="6165"/>
                </a:cubicBezTo>
                <a:cubicBezTo>
                  <a:pt x="13551" y="6263"/>
                  <a:pt x="13551" y="6360"/>
                  <a:pt x="13557" y="6459"/>
                </a:cubicBezTo>
                <a:cubicBezTo>
                  <a:pt x="13558" y="6469"/>
                  <a:pt x="13558" y="6472"/>
                  <a:pt x="13559" y="6479"/>
                </a:cubicBezTo>
                <a:cubicBezTo>
                  <a:pt x="13562" y="6430"/>
                  <a:pt x="13564" y="6380"/>
                  <a:pt x="13572" y="6331"/>
                </a:cubicBezTo>
                <a:cubicBezTo>
                  <a:pt x="13613" y="6092"/>
                  <a:pt x="13734" y="5867"/>
                  <a:pt x="13801" y="5634"/>
                </a:cubicBezTo>
                <a:cubicBezTo>
                  <a:pt x="13918" y="5225"/>
                  <a:pt x="13902" y="4711"/>
                  <a:pt x="14151" y="4352"/>
                </a:cubicBezTo>
                <a:cubicBezTo>
                  <a:pt x="14164" y="4337"/>
                  <a:pt x="14176" y="4321"/>
                  <a:pt x="14189" y="430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ecks and Bala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mers of the Constitution created a system of checks and balances which keeps any one branch of government from becoming too power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How_the_New_Constitution_Will_Work_.asf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ill of Righ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Madison had promised to make a bill of rights the first priority of the new govern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le V of the Constitution provides a way to change or amend the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rocess requires that proposed amendments must be approved by a two-thirds majority of both the House of Representatives and the Senate and then ratified by three-fourths of the states before taking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The_Bill_of_Rights.asf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Understanding the Constitu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mers of the Constitution devised the federal system of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m is a system of government in which the states and national government share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Federation_or_Nation_.asf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ederalists and Antifederalists begin to debate over the new Constitution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deralis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supporters of the Constitution.  Believed that the Constitution balanced power between the state and fede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portant Feder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Image:Benjamin Franklin by Jean-Baptiste Greuz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197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105" name="Ink 6"/>
          <p:cNvSpPr/>
          <p:nvPr/>
        </p:nvSpPr>
        <p:spPr>
          <a:xfrm>
            <a:off x="681120" y="1689120"/>
            <a:ext cx="2512800" cy="544320"/>
          </a:xfrm>
          <a:custGeom>
            <a:avLst/>
            <a:gdLst/>
            <a:ahLst/>
            <a:rect l="l" t="t" r="r" b="b"/>
            <a:pathLst>
              <a:path w="6982" h="1513">
                <a:moveTo>
                  <a:pt x="2068" y="5355"/>
                </a:moveTo>
                <a:cubicBezTo>
                  <a:pt x="2147" y="5366"/>
                  <a:pt x="2196" y="5382"/>
                  <a:pt x="2277" y="5403"/>
                </a:cubicBezTo>
                <a:cubicBezTo>
                  <a:pt x="2539" y="5470"/>
                  <a:pt x="2776" y="5303"/>
                  <a:pt x="3008" y="5199"/>
                </a:cubicBezTo>
                <a:cubicBezTo>
                  <a:pt x="3082" y="5166"/>
                  <a:pt x="3225" y="5067"/>
                  <a:pt x="3310" y="5081"/>
                </a:cubicBezTo>
                <a:cubicBezTo>
                  <a:pt x="3407" y="5097"/>
                  <a:pt x="3482" y="5209"/>
                  <a:pt x="3581" y="5242"/>
                </a:cubicBezTo>
                <a:cubicBezTo>
                  <a:pt x="3747" y="5297"/>
                  <a:pt x="3947" y="5356"/>
                  <a:pt x="4119" y="5389"/>
                </a:cubicBezTo>
                <a:cubicBezTo>
                  <a:pt x="4454" y="5454"/>
                  <a:pt x="4816" y="5364"/>
                  <a:pt x="5144" y="5297"/>
                </a:cubicBezTo>
                <a:cubicBezTo>
                  <a:pt x="5361" y="5253"/>
                  <a:pt x="5509" y="5258"/>
                  <a:pt x="5724" y="5287"/>
                </a:cubicBezTo>
                <a:cubicBezTo>
                  <a:pt x="6067" y="5334"/>
                  <a:pt x="6413" y="5335"/>
                  <a:pt x="6758" y="5343"/>
                </a:cubicBezTo>
                <a:cubicBezTo>
                  <a:pt x="7146" y="5352"/>
                  <a:pt x="7545" y="5385"/>
                  <a:pt x="7932" y="5368"/>
                </a:cubicBezTo>
                <a:cubicBezTo>
                  <a:pt x="8061" y="5362"/>
                  <a:pt x="8297" y="5334"/>
                  <a:pt x="8376" y="5326"/>
                </a:cubicBezTo>
                <a:cubicBezTo>
                  <a:pt x="8116" y="5216"/>
                  <a:pt x="7856" y="5182"/>
                  <a:pt x="7572" y="5157"/>
                </a:cubicBezTo>
                <a:cubicBezTo>
                  <a:pt x="6579" y="5068"/>
                  <a:pt x="5620" y="5269"/>
                  <a:pt x="4633" y="5320"/>
                </a:cubicBezTo>
                <a:cubicBezTo>
                  <a:pt x="3865" y="5360"/>
                  <a:pt x="2836" y="5451"/>
                  <a:pt x="2091" y="5211"/>
                </a:cubicBezTo>
                <a:cubicBezTo>
                  <a:pt x="2065" y="5203"/>
                  <a:pt x="2032" y="5175"/>
                  <a:pt x="2014" y="5169"/>
                </a:cubicBezTo>
                <a:cubicBezTo>
                  <a:pt x="2144" y="5114"/>
                  <a:pt x="2275" y="5060"/>
                  <a:pt x="2408" y="5011"/>
                </a:cubicBezTo>
                <a:cubicBezTo>
                  <a:pt x="2917" y="4824"/>
                  <a:pt x="3419" y="4698"/>
                  <a:pt x="3964" y="4691"/>
                </a:cubicBezTo>
                <a:cubicBezTo>
                  <a:pt x="4469" y="4685"/>
                  <a:pt x="4910" y="4785"/>
                  <a:pt x="5383" y="4945"/>
                </a:cubicBezTo>
                <a:cubicBezTo>
                  <a:pt x="5444" y="4966"/>
                  <a:pt x="5506" y="4983"/>
                  <a:pt x="5567" y="5002"/>
                </a:cubicBezTo>
                <a:cubicBezTo>
                  <a:pt x="5597" y="5006"/>
                  <a:pt x="5726" y="5017"/>
                  <a:pt x="5719" y="5016"/>
                </a:cubicBezTo>
                <a:cubicBezTo>
                  <a:pt x="5580" y="4986"/>
                  <a:pt x="5441" y="4987"/>
                  <a:pt x="5300" y="4999"/>
                </a:cubicBezTo>
                <a:cubicBezTo>
                  <a:pt x="4239" y="5087"/>
                  <a:pt x="3069" y="5838"/>
                  <a:pt x="2029" y="5747"/>
                </a:cubicBezTo>
                <a:cubicBezTo>
                  <a:pt x="1888" y="5735"/>
                  <a:pt x="1956" y="5691"/>
                  <a:pt x="1896" y="5637"/>
                </a:cubicBezTo>
                <a:cubicBezTo>
                  <a:pt x="2077" y="5421"/>
                  <a:pt x="2266" y="5350"/>
                  <a:pt x="2557" y="5327"/>
                </a:cubicBezTo>
                <a:cubicBezTo>
                  <a:pt x="3243" y="5272"/>
                  <a:pt x="3939" y="5393"/>
                  <a:pt x="4629" y="5353"/>
                </a:cubicBezTo>
                <a:cubicBezTo>
                  <a:pt x="5170" y="5322"/>
                  <a:pt x="5815" y="5124"/>
                  <a:pt x="6353" y="5216"/>
                </a:cubicBezTo>
                <a:cubicBezTo>
                  <a:pt x="6380" y="5221"/>
                  <a:pt x="6427" y="5250"/>
                  <a:pt x="6442" y="5253"/>
                </a:cubicBezTo>
                <a:cubicBezTo>
                  <a:pt x="6393" y="5285"/>
                  <a:pt x="6345" y="5336"/>
                  <a:pt x="6283" y="5368"/>
                </a:cubicBezTo>
                <a:cubicBezTo>
                  <a:pt x="5791" y="5622"/>
                  <a:pt x="5220" y="5846"/>
                  <a:pt x="4678" y="5963"/>
                </a:cubicBezTo>
                <a:cubicBezTo>
                  <a:pt x="4427" y="6017"/>
                  <a:pt x="4193" y="6019"/>
                  <a:pt x="3952" y="5934"/>
                </a:cubicBezTo>
                <a:cubicBezTo>
                  <a:pt x="3949" y="5929"/>
                  <a:pt x="3946" y="5925"/>
                  <a:pt x="3943" y="5920"/>
                </a:cubicBezTo>
                <a:cubicBezTo>
                  <a:pt x="3983" y="5897"/>
                  <a:pt x="4019" y="5857"/>
                  <a:pt x="4070" y="5834"/>
                </a:cubicBezTo>
                <a:cubicBezTo>
                  <a:pt x="5067" y="5394"/>
                  <a:pt x="6361" y="5565"/>
                  <a:pt x="7419" y="5561"/>
                </a:cubicBezTo>
                <a:cubicBezTo>
                  <a:pt x="7894" y="5559"/>
                  <a:pt x="8370" y="5680"/>
                  <a:pt x="8838" y="5675"/>
                </a:cubicBezTo>
                <a:cubicBezTo>
                  <a:pt x="8858" y="5675"/>
                  <a:pt x="8831" y="5658"/>
                  <a:pt x="8851" y="5658"/>
                </a:cubicBezTo>
                <a:cubicBezTo>
                  <a:pt x="8462" y="5571"/>
                  <a:pt x="8071" y="5551"/>
                  <a:pt x="7673" y="5543"/>
                </a:cubicBezTo>
                <a:cubicBezTo>
                  <a:pt x="6958" y="5528"/>
                  <a:pt x="5860" y="5429"/>
                  <a:pt x="5227" y="5847"/>
                </a:cubicBezTo>
                <a:cubicBezTo>
                  <a:pt x="5198" y="5866"/>
                  <a:pt x="5199" y="5902"/>
                  <a:pt x="5190" y="5910"/>
                </a:cubicBezTo>
                <a:cubicBezTo>
                  <a:pt x="5292" y="5927"/>
                  <a:pt x="5380" y="5947"/>
                  <a:pt x="5491" y="5941"/>
                </a:cubicBezTo>
                <a:cubicBezTo>
                  <a:pt x="6370" y="5895"/>
                  <a:pt x="7546" y="5356"/>
                  <a:pt x="8410" y="5674"/>
                </a:cubicBezTo>
                <a:cubicBezTo>
                  <a:pt x="8454" y="5690"/>
                  <a:pt x="8487" y="5726"/>
                  <a:pt x="8517" y="5741"/>
                </a:cubicBezTo>
                <a:cubicBezTo>
                  <a:pt x="8456" y="5775"/>
                  <a:pt x="8410" y="5817"/>
                  <a:pt x="8331" y="5842"/>
                </a:cubicBezTo>
                <a:cubicBezTo>
                  <a:pt x="7719" y="6033"/>
                  <a:pt x="6987" y="5931"/>
                  <a:pt x="6362" y="5883"/>
                </a:cubicBezTo>
                <a:cubicBezTo>
                  <a:pt x="5523" y="5818"/>
                  <a:pt x="4697" y="5766"/>
                  <a:pt x="3877" y="5997"/>
                </a:cubicBezTo>
                <a:cubicBezTo>
                  <a:pt x="3647" y="6062"/>
                  <a:pt x="3252" y="6150"/>
                  <a:pt x="3090" y="6202"/>
                </a:cubicBezTo>
                <a:cubicBezTo>
                  <a:pt x="3101" y="6202"/>
                  <a:pt x="3113" y="6203"/>
                  <a:pt x="3124" y="6203"/>
                </a:cubicBezTo>
                <a:cubicBezTo>
                  <a:pt x="3752" y="6140"/>
                  <a:pt x="4372" y="5906"/>
                  <a:pt x="4962" y="5724"/>
                </a:cubicBezTo>
                <a:cubicBezTo>
                  <a:pt x="4814" y="5732"/>
                  <a:pt x="4673" y="5747"/>
                  <a:pt x="4525" y="5775"/>
                </a:cubicBezTo>
                <a:cubicBezTo>
                  <a:pt x="3795" y="5915"/>
                  <a:pt x="3059" y="6090"/>
                  <a:pt x="2314" y="6009"/>
                </a:cubicBezTo>
                <a:cubicBezTo>
                  <a:pt x="2352" y="5992"/>
                  <a:pt x="2395" y="5960"/>
                  <a:pt x="2442" y="5944"/>
                </a:cubicBezTo>
                <a:cubicBezTo>
                  <a:pt x="2859" y="5799"/>
                  <a:pt x="3379" y="5732"/>
                  <a:pt x="3814" y="5806"/>
                </a:cubicBezTo>
                <a:cubicBezTo>
                  <a:pt x="4065" y="5849"/>
                  <a:pt x="4276" y="5871"/>
                  <a:pt x="4532" y="58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849240" y="4125960"/>
            <a:ext cx="4353120" cy="901800"/>
          </a:xfrm>
          <a:custGeom>
            <a:avLst/>
            <a:gdLst/>
            <a:ahLst/>
            <a:rect l="l" t="t" r="r" b="b"/>
            <a:pathLst>
              <a:path w="12090" h="2503">
                <a:moveTo>
                  <a:pt x="2694" y="12836"/>
                </a:moveTo>
                <a:cubicBezTo>
                  <a:pt x="2730" y="12819"/>
                  <a:pt x="2669" y="12828"/>
                  <a:pt x="2706" y="12812"/>
                </a:cubicBezTo>
                <a:cubicBezTo>
                  <a:pt x="3754" y="12350"/>
                  <a:pt x="4859" y="12415"/>
                  <a:pt x="5975" y="12486"/>
                </a:cubicBezTo>
                <a:cubicBezTo>
                  <a:pt x="6235" y="12503"/>
                  <a:pt x="6946" y="12538"/>
                  <a:pt x="6688" y="12569"/>
                </a:cubicBezTo>
                <a:cubicBezTo>
                  <a:pt x="5613" y="12698"/>
                  <a:pt x="4347" y="12567"/>
                  <a:pt x="3270" y="12465"/>
                </a:cubicBezTo>
                <a:cubicBezTo>
                  <a:pt x="3135" y="12450"/>
                  <a:pt x="3091" y="12446"/>
                  <a:pt x="3002" y="12438"/>
                </a:cubicBezTo>
                <a:cubicBezTo>
                  <a:pt x="2789" y="12421"/>
                  <a:pt x="2587" y="12423"/>
                  <a:pt x="2378" y="12426"/>
                </a:cubicBezTo>
                <a:cubicBezTo>
                  <a:pt x="2425" y="12444"/>
                  <a:pt x="2418" y="12491"/>
                  <a:pt x="2467" y="12503"/>
                </a:cubicBezTo>
                <a:cubicBezTo>
                  <a:pt x="3052" y="12642"/>
                  <a:pt x="3714" y="12531"/>
                  <a:pt x="4302" y="12478"/>
                </a:cubicBezTo>
                <a:cubicBezTo>
                  <a:pt x="5804" y="12342"/>
                  <a:pt x="7302" y="12227"/>
                  <a:pt x="8807" y="12131"/>
                </a:cubicBezTo>
                <a:cubicBezTo>
                  <a:pt x="9122" y="12111"/>
                  <a:pt x="9889" y="11790"/>
                  <a:pt x="9750" y="12073"/>
                </a:cubicBezTo>
                <a:cubicBezTo>
                  <a:pt x="9719" y="12135"/>
                  <a:pt x="9515" y="12173"/>
                  <a:pt x="9461" y="12193"/>
                </a:cubicBezTo>
                <a:cubicBezTo>
                  <a:pt x="8779" y="12448"/>
                  <a:pt x="8041" y="12542"/>
                  <a:pt x="7321" y="12596"/>
                </a:cubicBezTo>
                <a:cubicBezTo>
                  <a:pt x="7292" y="12594"/>
                  <a:pt x="6692" y="12523"/>
                  <a:pt x="6699" y="12515"/>
                </a:cubicBezTo>
                <a:cubicBezTo>
                  <a:pt x="6728" y="12483"/>
                  <a:pt x="6797" y="12499"/>
                  <a:pt x="6840" y="12495"/>
                </a:cubicBezTo>
                <a:cubicBezTo>
                  <a:pt x="8881" y="12297"/>
                  <a:pt x="11101" y="12082"/>
                  <a:pt x="13147" y="12294"/>
                </a:cubicBezTo>
                <a:cubicBezTo>
                  <a:pt x="13099" y="12295"/>
                  <a:pt x="13089" y="12298"/>
                  <a:pt x="13041" y="12299"/>
                </a:cubicBezTo>
                <a:cubicBezTo>
                  <a:pt x="11893" y="12320"/>
                  <a:pt x="10704" y="12364"/>
                  <a:pt x="9592" y="12660"/>
                </a:cubicBezTo>
                <a:cubicBezTo>
                  <a:pt x="9639" y="12671"/>
                  <a:pt x="9656" y="12710"/>
                  <a:pt x="9704" y="12714"/>
                </a:cubicBezTo>
                <a:cubicBezTo>
                  <a:pt x="10359" y="12773"/>
                  <a:pt x="11027" y="12632"/>
                  <a:pt x="11674" y="12547"/>
                </a:cubicBezTo>
                <a:cubicBezTo>
                  <a:pt x="12543" y="12433"/>
                  <a:pt x="14856" y="11732"/>
                  <a:pt x="14275" y="12388"/>
                </a:cubicBezTo>
                <a:cubicBezTo>
                  <a:pt x="13857" y="12860"/>
                  <a:pt x="12200" y="12978"/>
                  <a:pt x="11571" y="13117"/>
                </a:cubicBezTo>
                <a:cubicBezTo>
                  <a:pt x="11618" y="13121"/>
                  <a:pt x="11689" y="13153"/>
                  <a:pt x="11748" y="13155"/>
                </a:cubicBezTo>
                <a:cubicBezTo>
                  <a:pt x="12354" y="13173"/>
                  <a:pt x="12969" y="13001"/>
                  <a:pt x="13563" y="12900"/>
                </a:cubicBezTo>
                <a:cubicBezTo>
                  <a:pt x="13822" y="12856"/>
                  <a:pt x="14542" y="12826"/>
                  <a:pt x="14286" y="12769"/>
                </a:cubicBezTo>
                <a:cubicBezTo>
                  <a:pt x="13604" y="12618"/>
                  <a:pt x="12628" y="12951"/>
                  <a:pt x="11976" y="13127"/>
                </a:cubicBezTo>
                <a:cubicBezTo>
                  <a:pt x="11887" y="13151"/>
                  <a:pt x="11185" y="13295"/>
                  <a:pt x="11174" y="13420"/>
                </a:cubicBezTo>
                <a:cubicBezTo>
                  <a:pt x="11166" y="13513"/>
                  <a:pt x="11192" y="13430"/>
                  <a:pt x="11226" y="13504"/>
                </a:cubicBezTo>
                <a:cubicBezTo>
                  <a:pt x="11293" y="13515"/>
                  <a:pt x="11320" y="13519"/>
                  <a:pt x="11367" y="13521"/>
                </a:cubicBezTo>
                <a:cubicBezTo>
                  <a:pt x="11729" y="13492"/>
                  <a:pt x="12486" y="13515"/>
                  <a:pt x="12777" y="13248"/>
                </a:cubicBezTo>
                <a:cubicBezTo>
                  <a:pt x="12862" y="13170"/>
                  <a:pt x="12903" y="13172"/>
                  <a:pt x="12834" y="13074"/>
                </a:cubicBezTo>
                <a:cubicBezTo>
                  <a:pt x="12730" y="12927"/>
                  <a:pt x="12151" y="12821"/>
                  <a:pt x="11993" y="12775"/>
                </a:cubicBezTo>
                <a:cubicBezTo>
                  <a:pt x="11393" y="12600"/>
                  <a:pt x="10809" y="12601"/>
                  <a:pt x="10198" y="12703"/>
                </a:cubicBezTo>
                <a:cubicBezTo>
                  <a:pt x="10179" y="12719"/>
                  <a:pt x="9920" y="12755"/>
                  <a:pt x="9956" y="12830"/>
                </a:cubicBezTo>
                <a:cubicBezTo>
                  <a:pt x="10001" y="12923"/>
                  <a:pt x="10217" y="12913"/>
                  <a:pt x="10296" y="12925"/>
                </a:cubicBezTo>
                <a:cubicBezTo>
                  <a:pt x="11213" y="13061"/>
                  <a:pt x="12283" y="12867"/>
                  <a:pt x="13208" y="12819"/>
                </a:cubicBezTo>
                <a:cubicBezTo>
                  <a:pt x="13449" y="12807"/>
                  <a:pt x="13686" y="12780"/>
                  <a:pt x="13926" y="12753"/>
                </a:cubicBezTo>
                <a:cubicBezTo>
                  <a:pt x="13948" y="12744"/>
                  <a:pt x="14293" y="12701"/>
                  <a:pt x="14253" y="12619"/>
                </a:cubicBezTo>
                <a:cubicBezTo>
                  <a:pt x="14196" y="12502"/>
                  <a:pt x="13899" y="12548"/>
                  <a:pt x="13808" y="12546"/>
                </a:cubicBezTo>
                <a:cubicBezTo>
                  <a:pt x="12965" y="12526"/>
                  <a:pt x="11913" y="12744"/>
                  <a:pt x="11134" y="13059"/>
                </a:cubicBezTo>
                <a:cubicBezTo>
                  <a:pt x="11133" y="13063"/>
                  <a:pt x="11133" y="13068"/>
                  <a:pt x="11132" y="13072"/>
                </a:cubicBezTo>
                <a:cubicBezTo>
                  <a:pt x="11246" y="13079"/>
                  <a:pt x="11359" y="13098"/>
                  <a:pt x="11480" y="13092"/>
                </a:cubicBezTo>
                <a:cubicBezTo>
                  <a:pt x="12442" y="13048"/>
                  <a:pt x="14074" y="11781"/>
                  <a:pt x="14334" y="12708"/>
                </a:cubicBezTo>
                <a:cubicBezTo>
                  <a:pt x="14349" y="12763"/>
                  <a:pt x="14137" y="12797"/>
                  <a:pt x="14117" y="12803"/>
                </a:cubicBezTo>
                <a:cubicBezTo>
                  <a:pt x="14028" y="12829"/>
                  <a:pt x="13936" y="12839"/>
                  <a:pt x="13846" y="12861"/>
                </a:cubicBezTo>
                <a:cubicBezTo>
                  <a:pt x="13233" y="12949"/>
                  <a:pt x="12032" y="12759"/>
                  <a:pt x="11516" y="13113"/>
                </a:cubicBezTo>
                <a:cubicBezTo>
                  <a:pt x="11493" y="13129"/>
                  <a:pt x="11568" y="13160"/>
                  <a:pt x="11545" y="13175"/>
                </a:cubicBezTo>
                <a:cubicBezTo>
                  <a:pt x="12182" y="13332"/>
                  <a:pt x="12752" y="13266"/>
                  <a:pt x="13395" y="13110"/>
                </a:cubicBezTo>
                <a:cubicBezTo>
                  <a:pt x="13451" y="13096"/>
                  <a:pt x="14471" y="12790"/>
                  <a:pt x="14443" y="12744"/>
                </a:cubicBezTo>
                <a:cubicBezTo>
                  <a:pt x="14400" y="12671"/>
                  <a:pt x="14380" y="12698"/>
                  <a:pt x="14282" y="12656"/>
                </a:cubicBezTo>
                <a:cubicBezTo>
                  <a:pt x="13536" y="12334"/>
                  <a:pt x="12118" y="12706"/>
                  <a:pt x="11364" y="12837"/>
                </a:cubicBezTo>
                <a:cubicBezTo>
                  <a:pt x="10798" y="12935"/>
                  <a:pt x="10233" y="13066"/>
                  <a:pt x="9671" y="13171"/>
                </a:cubicBezTo>
                <a:cubicBezTo>
                  <a:pt x="9845" y="13103"/>
                  <a:pt x="10020" y="13031"/>
                  <a:pt x="10196" y="12966"/>
                </a:cubicBezTo>
                <a:cubicBezTo>
                  <a:pt x="11283" y="12563"/>
                  <a:pt x="12403" y="12165"/>
                  <a:pt x="13545" y="11968"/>
                </a:cubicBezTo>
                <a:cubicBezTo>
                  <a:pt x="13443" y="12016"/>
                  <a:pt x="13334" y="12084"/>
                  <a:pt x="13223" y="12129"/>
                </a:cubicBezTo>
                <a:cubicBezTo>
                  <a:pt x="11783" y="12709"/>
                  <a:pt x="10120" y="13312"/>
                  <a:pt x="8547" y="13276"/>
                </a:cubicBezTo>
                <a:cubicBezTo>
                  <a:pt x="8315" y="13271"/>
                  <a:pt x="8210" y="13204"/>
                  <a:pt x="8032" y="13130"/>
                </a:cubicBezTo>
                <a:cubicBezTo>
                  <a:pt x="8121" y="13030"/>
                  <a:pt x="8154" y="12934"/>
                  <a:pt x="8291" y="12844"/>
                </a:cubicBezTo>
                <a:cubicBezTo>
                  <a:pt x="9309" y="12175"/>
                  <a:pt x="10656" y="11842"/>
                  <a:pt x="11829" y="11575"/>
                </a:cubicBezTo>
                <a:cubicBezTo>
                  <a:pt x="11897" y="11560"/>
                  <a:pt x="11965" y="11546"/>
                  <a:pt x="12033" y="11531"/>
                </a:cubicBezTo>
                <a:cubicBezTo>
                  <a:pt x="12080" y="11524"/>
                  <a:pt x="12503" y="11434"/>
                  <a:pt x="12408" y="11482"/>
                </a:cubicBezTo>
                <a:cubicBezTo>
                  <a:pt x="11098" y="12150"/>
                  <a:pt x="9396" y="12286"/>
                  <a:pt x="8018" y="12917"/>
                </a:cubicBezTo>
                <a:cubicBezTo>
                  <a:pt x="7447" y="13178"/>
                  <a:pt x="6888" y="13459"/>
                  <a:pt x="6343" y="13767"/>
                </a:cubicBezTo>
                <a:cubicBezTo>
                  <a:pt x="6459" y="13717"/>
                  <a:pt x="6587" y="13668"/>
                  <a:pt x="6704" y="13614"/>
                </a:cubicBezTo>
                <a:cubicBezTo>
                  <a:pt x="8370" y="12842"/>
                  <a:pt x="10157" y="11766"/>
                  <a:pt x="12030" y="11632"/>
                </a:cubicBezTo>
                <a:cubicBezTo>
                  <a:pt x="12047" y="11635"/>
                  <a:pt x="12065" y="11639"/>
                  <a:pt x="12082" y="11642"/>
                </a:cubicBezTo>
                <a:cubicBezTo>
                  <a:pt x="12046" y="11664"/>
                  <a:pt x="11937" y="11765"/>
                  <a:pt x="11862" y="11800"/>
                </a:cubicBezTo>
                <a:cubicBezTo>
                  <a:pt x="10766" y="12307"/>
                  <a:pt x="9596" y="12655"/>
                  <a:pt x="8488" y="13140"/>
                </a:cubicBezTo>
                <a:cubicBezTo>
                  <a:pt x="8145" y="13290"/>
                  <a:pt x="7807" y="13448"/>
                  <a:pt x="7490" y="13635"/>
                </a:cubicBezTo>
                <a:cubicBezTo>
                  <a:pt x="7569" y="13632"/>
                  <a:pt x="7677" y="13654"/>
                  <a:pt x="7771" y="13641"/>
                </a:cubicBezTo>
                <a:cubicBezTo>
                  <a:pt x="9068" y="13461"/>
                  <a:pt x="10386" y="12833"/>
                  <a:pt x="11558" y="12280"/>
                </a:cubicBezTo>
                <a:cubicBezTo>
                  <a:pt x="11874" y="12131"/>
                  <a:pt x="12183" y="11985"/>
                  <a:pt x="12435" y="11741"/>
                </a:cubicBezTo>
                <a:cubicBezTo>
                  <a:pt x="12444" y="11718"/>
                  <a:pt x="12453" y="11695"/>
                  <a:pt x="12462" y="11672"/>
                </a:cubicBezTo>
                <a:cubicBezTo>
                  <a:pt x="12334" y="11633"/>
                  <a:pt x="12280" y="11556"/>
                  <a:pt x="12092" y="11562"/>
                </a:cubicBezTo>
                <a:cubicBezTo>
                  <a:pt x="11091" y="11593"/>
                  <a:pt x="10050" y="11985"/>
                  <a:pt x="9092" y="12244"/>
                </a:cubicBezTo>
                <a:cubicBezTo>
                  <a:pt x="7988" y="12543"/>
                  <a:pt x="6658" y="12967"/>
                  <a:pt x="5683" y="13292"/>
                </a:cubicBezTo>
                <a:cubicBezTo>
                  <a:pt x="7448" y="12538"/>
                  <a:pt x="9282" y="12038"/>
                  <a:pt x="11142" y="11578"/>
                </a:cubicBezTo>
                <a:cubicBezTo>
                  <a:pt x="10515" y="11719"/>
                  <a:pt x="9884" y="11842"/>
                  <a:pt x="9254" y="11970"/>
                </a:cubicBezTo>
                <a:cubicBezTo>
                  <a:pt x="8148" y="12195"/>
                  <a:pt x="6018" y="13155"/>
                  <a:pt x="4901" y="12872"/>
                </a:cubicBezTo>
                <a:cubicBezTo>
                  <a:pt x="4848" y="12859"/>
                  <a:pt x="4899" y="12848"/>
                  <a:pt x="4852" y="12821"/>
                </a:cubicBezTo>
                <a:cubicBezTo>
                  <a:pt x="4877" y="12810"/>
                  <a:pt x="4901" y="12800"/>
                  <a:pt x="4926" y="12789"/>
                </a:cubicBezTo>
                <a:cubicBezTo>
                  <a:pt x="6303" y="12328"/>
                  <a:pt x="7728" y="12109"/>
                  <a:pt x="9160" y="11894"/>
                </a:cubicBezTo>
                <a:cubicBezTo>
                  <a:pt x="9400" y="11856"/>
                  <a:pt x="9706" y="11854"/>
                  <a:pt x="9930" y="11752"/>
                </a:cubicBezTo>
                <a:cubicBezTo>
                  <a:pt x="10114" y="11668"/>
                  <a:pt x="9531" y="11809"/>
                  <a:pt x="9333" y="11847"/>
                </a:cubicBezTo>
                <a:cubicBezTo>
                  <a:pt x="7118" y="12272"/>
                  <a:pt x="4926" y="12835"/>
                  <a:pt x="2712" y="13276"/>
                </a:cubicBezTo>
                <a:cubicBezTo>
                  <a:pt x="2627" y="13293"/>
                  <a:pt x="2610" y="13297"/>
                  <a:pt x="2558" y="13304"/>
                </a:cubicBezTo>
                <a:cubicBezTo>
                  <a:pt x="2815" y="13218"/>
                  <a:pt x="3071" y="13132"/>
                  <a:pt x="3331" y="13054"/>
                </a:cubicBezTo>
                <a:cubicBezTo>
                  <a:pt x="5193" y="12496"/>
                  <a:pt x="7235" y="11944"/>
                  <a:pt x="9181" y="11803"/>
                </a:cubicBezTo>
                <a:cubicBezTo>
                  <a:pt x="9261" y="11800"/>
                  <a:pt x="9278" y="11796"/>
                  <a:pt x="9326" y="11808"/>
                </a:cubicBezTo>
                <a:cubicBezTo>
                  <a:pt x="9230" y="11845"/>
                  <a:pt x="9109" y="11915"/>
                  <a:pt x="8997" y="11950"/>
                </a:cubicBezTo>
                <a:cubicBezTo>
                  <a:pt x="7294" y="12479"/>
                  <a:pt x="5517" y="12741"/>
                  <a:pt x="3808" y="13262"/>
                </a:cubicBezTo>
                <a:cubicBezTo>
                  <a:pt x="3487" y="13360"/>
                  <a:pt x="3167" y="13453"/>
                  <a:pt x="2844" y="13531"/>
                </a:cubicBezTo>
                <a:cubicBezTo>
                  <a:pt x="2889" y="13509"/>
                  <a:pt x="3005" y="13423"/>
                  <a:pt x="3078" y="13395"/>
                </a:cubicBezTo>
                <a:cubicBezTo>
                  <a:pt x="4138" y="12985"/>
                  <a:pt x="5296" y="12794"/>
                  <a:pt x="6397" y="12528"/>
                </a:cubicBezTo>
                <a:cubicBezTo>
                  <a:pt x="7349" y="12298"/>
                  <a:pt x="8299" y="12057"/>
                  <a:pt x="9222" y="11733"/>
                </a:cubicBezTo>
                <a:cubicBezTo>
                  <a:pt x="8992" y="11778"/>
                  <a:pt x="8762" y="11822"/>
                  <a:pt x="8533" y="11876"/>
                </a:cubicBezTo>
                <a:cubicBezTo>
                  <a:pt x="7245" y="12179"/>
                  <a:pt x="3806" y="14210"/>
                  <a:pt x="2744" y="13949"/>
                </a:cubicBezTo>
                <a:cubicBezTo>
                  <a:pt x="2834" y="13886"/>
                  <a:pt x="2877" y="13857"/>
                  <a:pt x="2947" y="13816"/>
                </a:cubicBezTo>
                <a:cubicBezTo>
                  <a:pt x="4543" y="12899"/>
                  <a:pt x="6404" y="12037"/>
                  <a:pt x="8300" y="12218"/>
                </a:cubicBezTo>
                <a:cubicBezTo>
                  <a:pt x="8352" y="12223"/>
                  <a:pt x="8411" y="12245"/>
                  <a:pt x="8459" y="12250"/>
                </a:cubicBezTo>
                <a:cubicBezTo>
                  <a:pt x="8375" y="12282"/>
                  <a:pt x="8276" y="12334"/>
                  <a:pt x="8183" y="12364"/>
                </a:cubicBezTo>
                <a:cubicBezTo>
                  <a:pt x="6665" y="12859"/>
                  <a:pt x="5135" y="13322"/>
                  <a:pt x="3663" y="13940"/>
                </a:cubicBezTo>
                <a:cubicBezTo>
                  <a:pt x="3938" y="13886"/>
                  <a:pt x="4209" y="13827"/>
                  <a:pt x="4481" y="13756"/>
                </a:cubicBezTo>
                <a:cubicBezTo>
                  <a:pt x="5772" y="13417"/>
                  <a:pt x="7027" y="12954"/>
                  <a:pt x="8297" y="12547"/>
                </a:cubicBezTo>
                <a:cubicBezTo>
                  <a:pt x="8136" y="12561"/>
                  <a:pt x="7971" y="12570"/>
                  <a:pt x="7808" y="12592"/>
                </a:cubicBezTo>
                <a:cubicBezTo>
                  <a:pt x="6466" y="12773"/>
                  <a:pt x="5149" y="13474"/>
                  <a:pt x="3819" y="13573"/>
                </a:cubicBezTo>
                <a:cubicBezTo>
                  <a:pt x="3819" y="13546"/>
                  <a:pt x="3826" y="13533"/>
                  <a:pt x="3853" y="13524"/>
                </a:cubicBezTo>
                <a:cubicBezTo>
                  <a:pt x="4280" y="13275"/>
                  <a:pt x="4710" y="13040"/>
                  <a:pt x="5154" y="12822"/>
                </a:cubicBezTo>
                <a:cubicBezTo>
                  <a:pt x="6244" y="12287"/>
                  <a:pt x="7398" y="11719"/>
                  <a:pt x="8630" y="11660"/>
                </a:cubicBezTo>
                <a:cubicBezTo>
                  <a:pt x="8681" y="11662"/>
                  <a:pt x="8732" y="11663"/>
                  <a:pt x="8783" y="11665"/>
                </a:cubicBezTo>
                <a:cubicBezTo>
                  <a:pt x="8824" y="11699"/>
                  <a:pt x="9068" y="11648"/>
                  <a:pt x="8988" y="11774"/>
                </a:cubicBezTo>
                <a:cubicBezTo>
                  <a:pt x="8819" y="12041"/>
                  <a:pt x="7832" y="12196"/>
                  <a:pt x="7564" y="12288"/>
                </a:cubicBezTo>
                <a:cubicBezTo>
                  <a:pt x="6828" y="12541"/>
                  <a:pt x="6115" y="12838"/>
                  <a:pt x="5403" y="131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1347840" y="4467240"/>
            <a:ext cx="2392200" cy="604800"/>
          </a:xfrm>
          <a:custGeom>
            <a:avLst/>
            <a:gdLst/>
            <a:ahLst/>
            <a:rect l="l" t="t" r="r" b="b"/>
            <a:pathLst>
              <a:path w="6648" h="1681">
                <a:moveTo>
                  <a:pt x="4657" y="13521"/>
                </a:moveTo>
                <a:cubicBezTo>
                  <a:pt x="4368" y="13674"/>
                  <a:pt x="4072" y="13818"/>
                  <a:pt x="3805" y="14009"/>
                </a:cubicBezTo>
                <a:cubicBezTo>
                  <a:pt x="3784" y="14026"/>
                  <a:pt x="3764" y="14042"/>
                  <a:pt x="3743" y="14059"/>
                </a:cubicBezTo>
                <a:cubicBezTo>
                  <a:pt x="3815" y="14047"/>
                  <a:pt x="4015" y="14013"/>
                  <a:pt x="4131" y="13971"/>
                </a:cubicBezTo>
                <a:cubicBezTo>
                  <a:pt x="5054" y="13639"/>
                  <a:pt x="5950" y="13252"/>
                  <a:pt x="6897" y="12987"/>
                </a:cubicBezTo>
                <a:cubicBezTo>
                  <a:pt x="7654" y="12775"/>
                  <a:pt x="8421" y="12613"/>
                  <a:pt x="9201" y="12513"/>
                </a:cubicBezTo>
                <a:cubicBezTo>
                  <a:pt x="9796" y="12449"/>
                  <a:pt x="9992" y="12428"/>
                  <a:pt x="10390" y="124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5156280" y="4398840"/>
            <a:ext cx="156960" cy="2086200"/>
          </a:xfrm>
          <a:custGeom>
            <a:avLst/>
            <a:gdLst/>
            <a:ahLst/>
            <a:rect l="l" t="t" r="r" b="b"/>
            <a:pathLst>
              <a:path w="437" h="5795">
                <a:moveTo>
                  <a:pt x="14490" y="12279"/>
                </a:moveTo>
                <a:cubicBezTo>
                  <a:pt x="14524" y="12259"/>
                  <a:pt x="14557" y="12240"/>
                  <a:pt x="14591" y="12220"/>
                </a:cubicBezTo>
                <a:cubicBezTo>
                  <a:pt x="14585" y="12267"/>
                  <a:pt x="14584" y="12319"/>
                  <a:pt x="14572" y="12370"/>
                </a:cubicBezTo>
                <a:cubicBezTo>
                  <a:pt x="14540" y="12503"/>
                  <a:pt x="14507" y="12631"/>
                  <a:pt x="14483" y="12765"/>
                </a:cubicBezTo>
                <a:cubicBezTo>
                  <a:pt x="14446" y="12970"/>
                  <a:pt x="14276" y="13301"/>
                  <a:pt x="14327" y="13508"/>
                </a:cubicBezTo>
                <a:cubicBezTo>
                  <a:pt x="14344" y="13576"/>
                  <a:pt x="14401" y="13612"/>
                  <a:pt x="14421" y="13676"/>
                </a:cubicBezTo>
                <a:cubicBezTo>
                  <a:pt x="14488" y="13893"/>
                  <a:pt x="14505" y="14197"/>
                  <a:pt x="14520" y="14424"/>
                </a:cubicBezTo>
                <a:cubicBezTo>
                  <a:pt x="14529" y="14566"/>
                  <a:pt x="14530" y="14727"/>
                  <a:pt x="14511" y="14868"/>
                </a:cubicBezTo>
                <a:cubicBezTo>
                  <a:pt x="14487" y="15048"/>
                  <a:pt x="14392" y="15240"/>
                  <a:pt x="14432" y="15423"/>
                </a:cubicBezTo>
                <a:cubicBezTo>
                  <a:pt x="14454" y="15526"/>
                  <a:pt x="14525" y="15579"/>
                  <a:pt x="14570" y="15667"/>
                </a:cubicBezTo>
                <a:cubicBezTo>
                  <a:pt x="14724" y="15971"/>
                  <a:pt x="14661" y="16422"/>
                  <a:pt x="14671" y="16750"/>
                </a:cubicBezTo>
                <a:cubicBezTo>
                  <a:pt x="14675" y="16891"/>
                  <a:pt x="14672" y="17031"/>
                  <a:pt x="14718" y="17165"/>
                </a:cubicBezTo>
                <a:cubicBezTo>
                  <a:pt x="14743" y="17239"/>
                  <a:pt x="14753" y="17245"/>
                  <a:pt x="14742" y="17330"/>
                </a:cubicBezTo>
                <a:cubicBezTo>
                  <a:pt x="14727" y="17441"/>
                  <a:pt x="14705" y="17545"/>
                  <a:pt x="14697" y="17659"/>
                </a:cubicBezTo>
                <a:cubicBezTo>
                  <a:pt x="14688" y="17788"/>
                  <a:pt x="14667" y="17893"/>
                  <a:pt x="14627" y="18014"/>
                </a:cubicBezTo>
                <a:cubicBezTo>
                  <a:pt x="14655" y="17954"/>
                  <a:pt x="14681" y="17896"/>
                  <a:pt x="14708" y="178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ortant 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99px-JamesMadi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52388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91px-George-Washingt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434340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Ink 8"/>
          <p:cNvSpPr/>
          <p:nvPr/>
        </p:nvSpPr>
        <p:spPr>
          <a:xfrm>
            <a:off x="797040" y="1708200"/>
            <a:ext cx="3200400" cy="382680"/>
          </a:xfrm>
          <a:custGeom>
            <a:avLst/>
            <a:gdLst/>
            <a:ahLst/>
            <a:rect l="l" t="t" r="r" b="b"/>
            <a:pathLst>
              <a:path w="8889" h="1063">
                <a:moveTo>
                  <a:pt x="2891" y="4791"/>
                </a:moveTo>
                <a:cubicBezTo>
                  <a:pt x="2713" y="4933"/>
                  <a:pt x="2578" y="5090"/>
                  <a:pt x="2432" y="5276"/>
                </a:cubicBezTo>
                <a:cubicBezTo>
                  <a:pt x="2354" y="5375"/>
                  <a:pt x="2284" y="5479"/>
                  <a:pt x="2213" y="5582"/>
                </a:cubicBezTo>
                <a:cubicBezTo>
                  <a:pt x="2223" y="5574"/>
                  <a:pt x="2252" y="5555"/>
                  <a:pt x="2267" y="5542"/>
                </a:cubicBezTo>
                <a:cubicBezTo>
                  <a:pt x="2448" y="5381"/>
                  <a:pt x="2607" y="5281"/>
                  <a:pt x="2844" y="5224"/>
                </a:cubicBezTo>
                <a:cubicBezTo>
                  <a:pt x="2997" y="5187"/>
                  <a:pt x="3146" y="5183"/>
                  <a:pt x="3303" y="5189"/>
                </a:cubicBezTo>
                <a:cubicBezTo>
                  <a:pt x="3352" y="5191"/>
                  <a:pt x="3409" y="5193"/>
                  <a:pt x="3447" y="5199"/>
                </a:cubicBezTo>
                <a:cubicBezTo>
                  <a:pt x="3445" y="5202"/>
                  <a:pt x="3443" y="5206"/>
                  <a:pt x="3441" y="5209"/>
                </a:cubicBezTo>
                <a:cubicBezTo>
                  <a:pt x="3213" y="5356"/>
                  <a:pt x="2955" y="5446"/>
                  <a:pt x="2720" y="5586"/>
                </a:cubicBezTo>
                <a:cubicBezTo>
                  <a:pt x="2604" y="5655"/>
                  <a:pt x="2491" y="5732"/>
                  <a:pt x="2378" y="5805"/>
                </a:cubicBezTo>
                <a:cubicBezTo>
                  <a:pt x="2481" y="5758"/>
                  <a:pt x="2586" y="5710"/>
                  <a:pt x="2689" y="5661"/>
                </a:cubicBezTo>
                <a:cubicBezTo>
                  <a:pt x="3300" y="5373"/>
                  <a:pt x="4011" y="5035"/>
                  <a:pt x="4683" y="4930"/>
                </a:cubicBezTo>
                <a:cubicBezTo>
                  <a:pt x="4683" y="4935"/>
                  <a:pt x="4683" y="4941"/>
                  <a:pt x="4683" y="4946"/>
                </a:cubicBezTo>
                <a:cubicBezTo>
                  <a:pt x="4396" y="5108"/>
                  <a:pt x="4089" y="5225"/>
                  <a:pt x="3794" y="5373"/>
                </a:cubicBezTo>
                <a:cubicBezTo>
                  <a:pt x="3676" y="5432"/>
                  <a:pt x="3600" y="5506"/>
                  <a:pt x="3511" y="5580"/>
                </a:cubicBezTo>
                <a:cubicBezTo>
                  <a:pt x="3554" y="5580"/>
                  <a:pt x="3608" y="5600"/>
                  <a:pt x="3663" y="5594"/>
                </a:cubicBezTo>
                <a:cubicBezTo>
                  <a:pt x="4596" y="5497"/>
                  <a:pt x="5411" y="5101"/>
                  <a:pt x="6378" y="5158"/>
                </a:cubicBezTo>
                <a:cubicBezTo>
                  <a:pt x="6606" y="5171"/>
                  <a:pt x="6829" y="5202"/>
                  <a:pt x="7050" y="5246"/>
                </a:cubicBezTo>
                <a:cubicBezTo>
                  <a:pt x="7017" y="5252"/>
                  <a:pt x="6957" y="5274"/>
                  <a:pt x="6913" y="5280"/>
                </a:cubicBezTo>
                <a:cubicBezTo>
                  <a:pt x="6168" y="5378"/>
                  <a:pt x="5417" y="5429"/>
                  <a:pt x="4672" y="5525"/>
                </a:cubicBezTo>
                <a:cubicBezTo>
                  <a:pt x="6129" y="5265"/>
                  <a:pt x="7516" y="5026"/>
                  <a:pt x="8989" y="5302"/>
                </a:cubicBezTo>
                <a:cubicBezTo>
                  <a:pt x="9068" y="5317"/>
                  <a:pt x="9296" y="5346"/>
                  <a:pt x="9302" y="5346"/>
                </a:cubicBezTo>
                <a:cubicBezTo>
                  <a:pt x="9290" y="5341"/>
                  <a:pt x="9279" y="5337"/>
                  <a:pt x="9267" y="5332"/>
                </a:cubicBezTo>
                <a:cubicBezTo>
                  <a:pt x="8753" y="5238"/>
                  <a:pt x="8255" y="5263"/>
                  <a:pt x="7735" y="5312"/>
                </a:cubicBezTo>
                <a:cubicBezTo>
                  <a:pt x="7345" y="5349"/>
                  <a:pt x="6952" y="5386"/>
                  <a:pt x="6563" y="5425"/>
                </a:cubicBezTo>
                <a:cubicBezTo>
                  <a:pt x="6610" y="5436"/>
                  <a:pt x="6663" y="5461"/>
                  <a:pt x="6717" y="5470"/>
                </a:cubicBezTo>
                <a:cubicBezTo>
                  <a:pt x="7316" y="5566"/>
                  <a:pt x="7964" y="5487"/>
                  <a:pt x="8567" y="5472"/>
                </a:cubicBezTo>
                <a:cubicBezTo>
                  <a:pt x="9101" y="5459"/>
                  <a:pt x="10050" y="5581"/>
                  <a:pt x="10529" y="5278"/>
                </a:cubicBezTo>
                <a:cubicBezTo>
                  <a:pt x="10559" y="5259"/>
                  <a:pt x="10598" y="5189"/>
                  <a:pt x="10602" y="5187"/>
                </a:cubicBezTo>
                <a:cubicBezTo>
                  <a:pt x="10451" y="5156"/>
                  <a:pt x="10333" y="5120"/>
                  <a:pt x="10166" y="5129"/>
                </a:cubicBezTo>
                <a:cubicBezTo>
                  <a:pt x="9301" y="5177"/>
                  <a:pt x="8474" y="5518"/>
                  <a:pt x="7652" y="5762"/>
                </a:cubicBezTo>
                <a:cubicBezTo>
                  <a:pt x="8683" y="5653"/>
                  <a:pt x="9815" y="5620"/>
                  <a:pt x="10773" y="5187"/>
                </a:cubicBezTo>
                <a:cubicBezTo>
                  <a:pt x="10904" y="5128"/>
                  <a:pt x="11006" y="5067"/>
                  <a:pt x="11101" y="4966"/>
                </a:cubicBezTo>
                <a:cubicBezTo>
                  <a:pt x="11098" y="4958"/>
                  <a:pt x="11096" y="4949"/>
                  <a:pt x="11093" y="4941"/>
                </a:cubicBezTo>
                <a:cubicBezTo>
                  <a:pt x="10961" y="4930"/>
                  <a:pt x="10847" y="4918"/>
                  <a:pt x="10707" y="4933"/>
                </a:cubicBezTo>
                <a:cubicBezTo>
                  <a:pt x="10066" y="5002"/>
                  <a:pt x="9432" y="5133"/>
                  <a:pt x="8790" y="5202"/>
                </a:cubicBezTo>
                <a:cubicBezTo>
                  <a:pt x="8708" y="5211"/>
                  <a:pt x="8542" y="5237"/>
                  <a:pt x="8494" y="5245"/>
                </a:cubicBezTo>
                <a:cubicBezTo>
                  <a:pt x="8852" y="5275"/>
                  <a:pt x="9278" y="5304"/>
                  <a:pt x="9614" y="5147"/>
                </a:cubicBezTo>
                <a:cubicBezTo>
                  <a:pt x="9660" y="5125"/>
                  <a:pt x="9688" y="5083"/>
                  <a:pt x="9728" y="5062"/>
                </a:cubicBezTo>
                <a:cubicBezTo>
                  <a:pt x="9666" y="4990"/>
                  <a:pt x="9689" y="4928"/>
                  <a:pt x="9556" y="4870"/>
                </a:cubicBezTo>
                <a:cubicBezTo>
                  <a:pt x="9213" y="4721"/>
                  <a:pt x="8779" y="4792"/>
                  <a:pt x="8426" y="4859"/>
                </a:cubicBezTo>
                <a:cubicBezTo>
                  <a:pt x="8037" y="4933"/>
                  <a:pt x="7654" y="5037"/>
                  <a:pt x="7269" y="5128"/>
                </a:cubicBezTo>
                <a:cubicBezTo>
                  <a:pt x="7901" y="5040"/>
                  <a:pt x="8534" y="4906"/>
                  <a:pt x="9172" y="4869"/>
                </a:cubicBezTo>
                <a:cubicBezTo>
                  <a:pt x="9368" y="4858"/>
                  <a:pt x="9551" y="4872"/>
                  <a:pt x="9742" y="4891"/>
                </a:cubicBezTo>
                <a:cubicBezTo>
                  <a:pt x="9698" y="4905"/>
                  <a:pt x="9632" y="4937"/>
                  <a:pt x="9577" y="4950"/>
                </a:cubicBezTo>
                <a:cubicBezTo>
                  <a:pt x="8931" y="5106"/>
                  <a:pt x="8268" y="5230"/>
                  <a:pt x="7615" y="5351"/>
                </a:cubicBezTo>
                <a:cubicBezTo>
                  <a:pt x="7675" y="5323"/>
                  <a:pt x="7693" y="5303"/>
                  <a:pt x="7754" y="5279"/>
                </a:cubicBezTo>
                <a:cubicBezTo>
                  <a:pt x="8019" y="5174"/>
                  <a:pt x="8980" y="4642"/>
                  <a:pt x="9248" y="4745"/>
                </a:cubicBezTo>
                <a:cubicBezTo>
                  <a:pt x="9296" y="4763"/>
                  <a:pt x="9286" y="4727"/>
                  <a:pt x="9287" y="4783"/>
                </a:cubicBezTo>
                <a:cubicBezTo>
                  <a:pt x="9287" y="4816"/>
                  <a:pt x="9199" y="4883"/>
                  <a:pt x="9180" y="4906"/>
                </a:cubicBezTo>
                <a:cubicBezTo>
                  <a:pt x="9138" y="4946"/>
                  <a:pt x="9123" y="4960"/>
                  <a:pt x="9091" y="498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479520" y="4448160"/>
            <a:ext cx="4157640" cy="738360"/>
          </a:xfrm>
          <a:custGeom>
            <a:avLst/>
            <a:gdLst/>
            <a:ahLst/>
            <a:rect l="l" t="t" r="r" b="b"/>
            <a:pathLst>
              <a:path w="11546" h="2051">
                <a:moveTo>
                  <a:pt x="3300" y="13483"/>
                </a:moveTo>
                <a:cubicBezTo>
                  <a:pt x="3270" y="13521"/>
                  <a:pt x="3431" y="13510"/>
                  <a:pt x="3388" y="13531"/>
                </a:cubicBezTo>
                <a:cubicBezTo>
                  <a:pt x="3176" y="13635"/>
                  <a:pt x="2841" y="13669"/>
                  <a:pt x="2609" y="13661"/>
                </a:cubicBezTo>
                <a:cubicBezTo>
                  <a:pt x="2574" y="13660"/>
                  <a:pt x="2536" y="13634"/>
                  <a:pt x="2508" y="13632"/>
                </a:cubicBezTo>
                <a:cubicBezTo>
                  <a:pt x="2547" y="13567"/>
                  <a:pt x="2549" y="13484"/>
                  <a:pt x="2633" y="13407"/>
                </a:cubicBezTo>
                <a:cubicBezTo>
                  <a:pt x="2969" y="13096"/>
                  <a:pt x="4211" y="12675"/>
                  <a:pt x="3753" y="12666"/>
                </a:cubicBezTo>
                <a:cubicBezTo>
                  <a:pt x="3515" y="12661"/>
                  <a:pt x="3173" y="12940"/>
                  <a:pt x="2976" y="13049"/>
                </a:cubicBezTo>
                <a:cubicBezTo>
                  <a:pt x="2833" y="13128"/>
                  <a:pt x="2690" y="13208"/>
                  <a:pt x="2547" y="13288"/>
                </a:cubicBezTo>
                <a:cubicBezTo>
                  <a:pt x="2832" y="13145"/>
                  <a:pt x="3116" y="12999"/>
                  <a:pt x="3394" y="12843"/>
                </a:cubicBezTo>
                <a:cubicBezTo>
                  <a:pt x="3176" y="13033"/>
                  <a:pt x="2658" y="13653"/>
                  <a:pt x="2344" y="13613"/>
                </a:cubicBezTo>
                <a:cubicBezTo>
                  <a:pt x="2208" y="13596"/>
                  <a:pt x="2154" y="13428"/>
                  <a:pt x="2016" y="13379"/>
                </a:cubicBezTo>
                <a:cubicBezTo>
                  <a:pt x="1860" y="13323"/>
                  <a:pt x="1702" y="13347"/>
                  <a:pt x="1543" y="13342"/>
                </a:cubicBezTo>
                <a:cubicBezTo>
                  <a:pt x="1658" y="13306"/>
                  <a:pt x="1774" y="13281"/>
                  <a:pt x="1889" y="13236"/>
                </a:cubicBezTo>
                <a:cubicBezTo>
                  <a:pt x="2166" y="13128"/>
                  <a:pt x="2650" y="12835"/>
                  <a:pt x="2949" y="13013"/>
                </a:cubicBezTo>
                <a:cubicBezTo>
                  <a:pt x="3158" y="13137"/>
                  <a:pt x="2983" y="13394"/>
                  <a:pt x="2872" y="13515"/>
                </a:cubicBezTo>
                <a:cubicBezTo>
                  <a:pt x="2740" y="13658"/>
                  <a:pt x="2561" y="13731"/>
                  <a:pt x="2399" y="13830"/>
                </a:cubicBezTo>
                <a:cubicBezTo>
                  <a:pt x="2329" y="13864"/>
                  <a:pt x="2259" y="13898"/>
                  <a:pt x="2189" y="13932"/>
                </a:cubicBezTo>
                <a:cubicBezTo>
                  <a:pt x="2223" y="13919"/>
                  <a:pt x="2218" y="13938"/>
                  <a:pt x="2251" y="13923"/>
                </a:cubicBezTo>
                <a:cubicBezTo>
                  <a:pt x="2800" y="13681"/>
                  <a:pt x="3304" y="13341"/>
                  <a:pt x="3786" y="12988"/>
                </a:cubicBezTo>
                <a:cubicBezTo>
                  <a:pt x="3667" y="13046"/>
                  <a:pt x="3544" y="13103"/>
                  <a:pt x="3425" y="13165"/>
                </a:cubicBezTo>
                <a:cubicBezTo>
                  <a:pt x="2751" y="13515"/>
                  <a:pt x="2056" y="13818"/>
                  <a:pt x="1333" y="14048"/>
                </a:cubicBezTo>
                <a:cubicBezTo>
                  <a:pt x="1385" y="14011"/>
                  <a:pt x="1444" y="13958"/>
                  <a:pt x="1504" y="13919"/>
                </a:cubicBezTo>
                <a:cubicBezTo>
                  <a:pt x="2113" y="13528"/>
                  <a:pt x="3681" y="12468"/>
                  <a:pt x="3527" y="13175"/>
                </a:cubicBezTo>
                <a:cubicBezTo>
                  <a:pt x="3521" y="13200"/>
                  <a:pt x="3542" y="13177"/>
                  <a:pt x="3466" y="13221"/>
                </a:cubicBezTo>
                <a:cubicBezTo>
                  <a:pt x="3212" y="13367"/>
                  <a:pt x="2884" y="13444"/>
                  <a:pt x="2615" y="13574"/>
                </a:cubicBezTo>
                <a:cubicBezTo>
                  <a:pt x="2651" y="13556"/>
                  <a:pt x="2596" y="13582"/>
                  <a:pt x="2632" y="13564"/>
                </a:cubicBezTo>
                <a:cubicBezTo>
                  <a:pt x="3115" y="13323"/>
                  <a:pt x="3996" y="12877"/>
                  <a:pt x="4542" y="13126"/>
                </a:cubicBezTo>
                <a:cubicBezTo>
                  <a:pt x="4686" y="13192"/>
                  <a:pt x="4721" y="13256"/>
                  <a:pt x="4656" y="13400"/>
                </a:cubicBezTo>
                <a:cubicBezTo>
                  <a:pt x="4562" y="13608"/>
                  <a:pt x="4235" y="13746"/>
                  <a:pt x="4054" y="13863"/>
                </a:cubicBezTo>
                <a:cubicBezTo>
                  <a:pt x="4010" y="13894"/>
                  <a:pt x="3969" y="13925"/>
                  <a:pt x="3927" y="13957"/>
                </a:cubicBezTo>
                <a:cubicBezTo>
                  <a:pt x="3964" y="13954"/>
                  <a:pt x="3971" y="13987"/>
                  <a:pt x="4007" y="13981"/>
                </a:cubicBezTo>
                <a:cubicBezTo>
                  <a:pt x="4784" y="13856"/>
                  <a:pt x="5538" y="13611"/>
                  <a:pt x="6320" y="13493"/>
                </a:cubicBezTo>
                <a:cubicBezTo>
                  <a:pt x="6264" y="13507"/>
                  <a:pt x="6280" y="13514"/>
                  <a:pt x="6223" y="13526"/>
                </a:cubicBezTo>
                <a:cubicBezTo>
                  <a:pt x="5590" y="13662"/>
                  <a:pt x="4745" y="13852"/>
                  <a:pt x="4236" y="13996"/>
                </a:cubicBezTo>
                <a:cubicBezTo>
                  <a:pt x="5387" y="13606"/>
                  <a:pt x="6915" y="12856"/>
                  <a:pt x="8159" y="13054"/>
                </a:cubicBezTo>
                <a:cubicBezTo>
                  <a:pt x="8222" y="13064"/>
                  <a:pt x="8282" y="13103"/>
                  <a:pt x="8339" y="13113"/>
                </a:cubicBezTo>
                <a:cubicBezTo>
                  <a:pt x="8313" y="13135"/>
                  <a:pt x="8304" y="13229"/>
                  <a:pt x="8204" y="13278"/>
                </a:cubicBezTo>
                <a:cubicBezTo>
                  <a:pt x="7732" y="13508"/>
                  <a:pt x="7037" y="13522"/>
                  <a:pt x="6625" y="13487"/>
                </a:cubicBezTo>
                <a:cubicBezTo>
                  <a:pt x="7413" y="13644"/>
                  <a:pt x="8096" y="13545"/>
                  <a:pt x="8860" y="13297"/>
                </a:cubicBezTo>
                <a:cubicBezTo>
                  <a:pt x="9263" y="13166"/>
                  <a:pt x="9657" y="13009"/>
                  <a:pt x="10057" y="12871"/>
                </a:cubicBezTo>
                <a:cubicBezTo>
                  <a:pt x="9938" y="12924"/>
                  <a:pt x="9819" y="12979"/>
                  <a:pt x="9697" y="13029"/>
                </a:cubicBezTo>
                <a:cubicBezTo>
                  <a:pt x="8820" y="13386"/>
                  <a:pt x="7934" y="13726"/>
                  <a:pt x="7028" y="14003"/>
                </a:cubicBezTo>
                <a:cubicBezTo>
                  <a:pt x="8342" y="13707"/>
                  <a:pt x="9646" y="13344"/>
                  <a:pt x="10964" y="13067"/>
                </a:cubicBezTo>
                <a:cubicBezTo>
                  <a:pt x="11040" y="13051"/>
                  <a:pt x="11466" y="12921"/>
                  <a:pt x="11527" y="13037"/>
                </a:cubicBezTo>
                <a:cubicBezTo>
                  <a:pt x="11573" y="13125"/>
                  <a:pt x="11482" y="13214"/>
                  <a:pt x="11433" y="13280"/>
                </a:cubicBezTo>
                <a:cubicBezTo>
                  <a:pt x="11294" y="13467"/>
                  <a:pt x="11057" y="13569"/>
                  <a:pt x="10864" y="13686"/>
                </a:cubicBezTo>
                <a:cubicBezTo>
                  <a:pt x="10772" y="13728"/>
                  <a:pt x="10681" y="13769"/>
                  <a:pt x="10588" y="13808"/>
                </a:cubicBezTo>
                <a:cubicBezTo>
                  <a:pt x="10691" y="13770"/>
                  <a:pt x="10795" y="13729"/>
                  <a:pt x="10901" y="13694"/>
                </a:cubicBezTo>
                <a:cubicBezTo>
                  <a:pt x="11418" y="13522"/>
                  <a:pt x="11978" y="13408"/>
                  <a:pt x="12460" y="13156"/>
                </a:cubicBezTo>
                <a:cubicBezTo>
                  <a:pt x="12463" y="13150"/>
                  <a:pt x="12465" y="13143"/>
                  <a:pt x="12468" y="13137"/>
                </a:cubicBezTo>
                <a:cubicBezTo>
                  <a:pt x="12395" y="13126"/>
                  <a:pt x="12315" y="13088"/>
                  <a:pt x="12227" y="13083"/>
                </a:cubicBezTo>
                <a:cubicBezTo>
                  <a:pt x="11329" y="13032"/>
                  <a:pt x="10329" y="13230"/>
                  <a:pt x="9499" y="13567"/>
                </a:cubicBezTo>
                <a:cubicBezTo>
                  <a:pt x="9381" y="13615"/>
                  <a:pt x="9276" y="13673"/>
                  <a:pt x="9167" y="13734"/>
                </a:cubicBezTo>
                <a:cubicBezTo>
                  <a:pt x="9158" y="13742"/>
                  <a:pt x="9148" y="13750"/>
                  <a:pt x="9139" y="13758"/>
                </a:cubicBezTo>
                <a:cubicBezTo>
                  <a:pt x="9143" y="13758"/>
                  <a:pt x="9232" y="13801"/>
                  <a:pt x="9281" y="13797"/>
                </a:cubicBezTo>
                <a:cubicBezTo>
                  <a:pt x="10247" y="13719"/>
                  <a:pt x="11202" y="13294"/>
                  <a:pt x="12145" y="13081"/>
                </a:cubicBezTo>
                <a:cubicBezTo>
                  <a:pt x="12280" y="13050"/>
                  <a:pt x="12421" y="13039"/>
                  <a:pt x="12552" y="13019"/>
                </a:cubicBezTo>
                <a:cubicBezTo>
                  <a:pt x="12472" y="13058"/>
                  <a:pt x="12387" y="13105"/>
                  <a:pt x="12303" y="13143"/>
                </a:cubicBezTo>
                <a:cubicBezTo>
                  <a:pt x="11928" y="13316"/>
                  <a:pt x="11550" y="13484"/>
                  <a:pt x="11168" y="13641"/>
                </a:cubicBezTo>
                <a:cubicBezTo>
                  <a:pt x="11377" y="13587"/>
                  <a:pt x="11584" y="13532"/>
                  <a:pt x="11796" y="13491"/>
                </a:cubicBezTo>
                <a:cubicBezTo>
                  <a:pt x="12138" y="13426"/>
                  <a:pt x="12468" y="13402"/>
                  <a:pt x="12814" y="13409"/>
                </a:cubicBezTo>
                <a:cubicBezTo>
                  <a:pt x="12788" y="13413"/>
                  <a:pt x="12894" y="13439"/>
                  <a:pt x="12867" y="13438"/>
                </a:cubicBezTo>
                <a:cubicBezTo>
                  <a:pt x="12836" y="13437"/>
                  <a:pt x="12830" y="13422"/>
                  <a:pt x="12799" y="13423"/>
                </a:cubicBezTo>
                <a:cubicBezTo>
                  <a:pt x="12606" y="13428"/>
                  <a:pt x="10974" y="13741"/>
                  <a:pt x="11030" y="13926"/>
                </a:cubicBezTo>
                <a:cubicBezTo>
                  <a:pt x="11043" y="13969"/>
                  <a:pt x="11077" y="13931"/>
                  <a:pt x="11125" y="13945"/>
                </a:cubicBezTo>
                <a:cubicBezTo>
                  <a:pt x="11390" y="14022"/>
                  <a:pt x="11884" y="13870"/>
                  <a:pt x="12175" y="13864"/>
                </a:cubicBezTo>
                <a:cubicBezTo>
                  <a:pt x="12208" y="13862"/>
                  <a:pt x="12205" y="13870"/>
                  <a:pt x="12234" y="13855"/>
                </a:cubicBezTo>
                <a:cubicBezTo>
                  <a:pt x="11657" y="13868"/>
                  <a:pt x="11083" y="14136"/>
                  <a:pt x="10523" y="14134"/>
                </a:cubicBezTo>
                <a:cubicBezTo>
                  <a:pt x="10456" y="14134"/>
                  <a:pt x="10342" y="14089"/>
                  <a:pt x="10254" y="14092"/>
                </a:cubicBezTo>
                <a:cubicBezTo>
                  <a:pt x="9975" y="14102"/>
                  <a:pt x="9693" y="14174"/>
                  <a:pt x="9432" y="14264"/>
                </a:cubicBezTo>
                <a:cubicBezTo>
                  <a:pt x="9460" y="14262"/>
                  <a:pt x="9475" y="14260"/>
                  <a:pt x="9496" y="14255"/>
                </a:cubicBezTo>
                <a:cubicBezTo>
                  <a:pt x="10350" y="14022"/>
                  <a:pt x="11269" y="13781"/>
                  <a:pt x="12059" y="13376"/>
                </a:cubicBezTo>
                <a:cubicBezTo>
                  <a:pt x="12063" y="13363"/>
                  <a:pt x="12060" y="13359"/>
                  <a:pt x="12039" y="13365"/>
                </a:cubicBezTo>
                <a:cubicBezTo>
                  <a:pt x="11171" y="13525"/>
                  <a:pt x="10303" y="13760"/>
                  <a:pt x="9478" y="14076"/>
                </a:cubicBezTo>
                <a:cubicBezTo>
                  <a:pt x="9203" y="14181"/>
                  <a:pt x="8927" y="14299"/>
                  <a:pt x="8656" y="14407"/>
                </a:cubicBezTo>
                <a:cubicBezTo>
                  <a:pt x="8686" y="14372"/>
                  <a:pt x="8722" y="14319"/>
                  <a:pt x="8756" y="14281"/>
                </a:cubicBezTo>
                <a:cubicBezTo>
                  <a:pt x="8954" y="14063"/>
                  <a:pt x="9149" y="13871"/>
                  <a:pt x="9255" y="13597"/>
                </a:cubicBezTo>
                <a:cubicBezTo>
                  <a:pt x="9253" y="13585"/>
                  <a:pt x="9250" y="13573"/>
                  <a:pt x="9248" y="13561"/>
                </a:cubicBezTo>
                <a:cubicBezTo>
                  <a:pt x="9140" y="13545"/>
                  <a:pt x="9052" y="13506"/>
                  <a:pt x="8917" y="13517"/>
                </a:cubicBezTo>
                <a:cubicBezTo>
                  <a:pt x="7951" y="13596"/>
                  <a:pt x="7132" y="14027"/>
                  <a:pt x="6164" y="13658"/>
                </a:cubicBezTo>
                <a:cubicBezTo>
                  <a:pt x="6099" y="13633"/>
                  <a:pt x="5335" y="13323"/>
                  <a:pt x="5347" y="13234"/>
                </a:cubicBezTo>
                <a:cubicBezTo>
                  <a:pt x="5356" y="13169"/>
                  <a:pt x="5406" y="13183"/>
                  <a:pt x="5459" y="13142"/>
                </a:cubicBezTo>
                <a:cubicBezTo>
                  <a:pt x="5690" y="12960"/>
                  <a:pt x="6134" y="12915"/>
                  <a:pt x="6415" y="12845"/>
                </a:cubicBezTo>
                <a:cubicBezTo>
                  <a:pt x="6473" y="12830"/>
                  <a:pt x="6482" y="12830"/>
                  <a:pt x="6538" y="12808"/>
                </a:cubicBezTo>
                <a:cubicBezTo>
                  <a:pt x="5537" y="13086"/>
                  <a:pt x="4633" y="13533"/>
                  <a:pt x="3727" y="14033"/>
                </a:cubicBezTo>
                <a:cubicBezTo>
                  <a:pt x="3818" y="13966"/>
                  <a:pt x="3910" y="13892"/>
                  <a:pt x="4007" y="13828"/>
                </a:cubicBezTo>
                <a:cubicBezTo>
                  <a:pt x="4770" y="13321"/>
                  <a:pt x="5574" y="12936"/>
                  <a:pt x="6418" y="12588"/>
                </a:cubicBezTo>
                <a:cubicBezTo>
                  <a:pt x="6349" y="12602"/>
                  <a:pt x="6270" y="12608"/>
                  <a:pt x="6199" y="12625"/>
                </a:cubicBezTo>
                <a:cubicBezTo>
                  <a:pt x="5262" y="12854"/>
                  <a:pt x="4425" y="13323"/>
                  <a:pt x="3514" y="13616"/>
                </a:cubicBezTo>
                <a:cubicBezTo>
                  <a:pt x="3501" y="13616"/>
                  <a:pt x="3489" y="13616"/>
                  <a:pt x="3476" y="13616"/>
                </a:cubicBezTo>
                <a:cubicBezTo>
                  <a:pt x="3523" y="13580"/>
                  <a:pt x="3593" y="13505"/>
                  <a:pt x="3657" y="13464"/>
                </a:cubicBezTo>
                <a:cubicBezTo>
                  <a:pt x="4388" y="12996"/>
                  <a:pt x="5226" y="12634"/>
                  <a:pt x="6045" y="12357"/>
                </a:cubicBezTo>
                <a:cubicBezTo>
                  <a:pt x="5985" y="12399"/>
                  <a:pt x="5961" y="12440"/>
                  <a:pt x="5899" y="12477"/>
                </a:cubicBezTo>
                <a:cubicBezTo>
                  <a:pt x="5023" y="13001"/>
                  <a:pt x="4057" y="13380"/>
                  <a:pt x="3164" y="13878"/>
                </a:cubicBezTo>
                <a:cubicBezTo>
                  <a:pt x="3269" y="13839"/>
                  <a:pt x="3382" y="13805"/>
                  <a:pt x="3488" y="13762"/>
                </a:cubicBezTo>
                <a:cubicBezTo>
                  <a:pt x="4346" y="13418"/>
                  <a:pt x="5186" y="13023"/>
                  <a:pt x="6020" y="12628"/>
                </a:cubicBezTo>
                <a:cubicBezTo>
                  <a:pt x="5335" y="12962"/>
                  <a:pt x="4449" y="13553"/>
                  <a:pt x="3671" y="13587"/>
                </a:cubicBezTo>
                <a:cubicBezTo>
                  <a:pt x="3424" y="13598"/>
                  <a:pt x="3482" y="13547"/>
                  <a:pt x="3430" y="13382"/>
                </a:cubicBezTo>
                <a:cubicBezTo>
                  <a:pt x="3442" y="13354"/>
                  <a:pt x="3455" y="13325"/>
                  <a:pt x="3467" y="132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480960" y="1684440"/>
            <a:ext cx="1305000" cy="425520"/>
          </a:xfrm>
          <a:custGeom>
            <a:avLst/>
            <a:gdLst/>
            <a:ahLst/>
            <a:rect l="l" t="t" r="r" b="b"/>
            <a:pathLst>
              <a:path w="3625" h="1179">
                <a:moveTo>
                  <a:pt x="2903" y="5392"/>
                </a:moveTo>
                <a:cubicBezTo>
                  <a:pt x="2727" y="5355"/>
                  <a:pt x="2687" y="5287"/>
                  <a:pt x="2611" y="5130"/>
                </a:cubicBezTo>
                <a:cubicBezTo>
                  <a:pt x="2578" y="5061"/>
                  <a:pt x="2551" y="5019"/>
                  <a:pt x="2468" y="5014"/>
                </a:cubicBezTo>
                <a:cubicBezTo>
                  <a:pt x="2253" y="5000"/>
                  <a:pt x="2012" y="5124"/>
                  <a:pt x="1819" y="5200"/>
                </a:cubicBezTo>
                <a:cubicBezTo>
                  <a:pt x="1725" y="5237"/>
                  <a:pt x="1636" y="5278"/>
                  <a:pt x="1544" y="5319"/>
                </a:cubicBezTo>
                <a:cubicBezTo>
                  <a:pt x="1470" y="5352"/>
                  <a:pt x="1406" y="5389"/>
                  <a:pt x="1336" y="5429"/>
                </a:cubicBezTo>
                <a:cubicBezTo>
                  <a:pt x="1518" y="5366"/>
                  <a:pt x="1686" y="5282"/>
                  <a:pt x="1860" y="5200"/>
                </a:cubicBezTo>
                <a:cubicBezTo>
                  <a:pt x="2121" y="5077"/>
                  <a:pt x="2702" y="4653"/>
                  <a:pt x="2998" y="4680"/>
                </a:cubicBezTo>
                <a:cubicBezTo>
                  <a:pt x="3018" y="4688"/>
                  <a:pt x="3022" y="4693"/>
                  <a:pt x="3006" y="4712"/>
                </a:cubicBezTo>
                <a:cubicBezTo>
                  <a:pt x="2920" y="4805"/>
                  <a:pt x="2836" y="4893"/>
                  <a:pt x="2738" y="4976"/>
                </a:cubicBezTo>
                <a:cubicBezTo>
                  <a:pt x="2373" y="5285"/>
                  <a:pt x="1941" y="5656"/>
                  <a:pt x="1491" y="5834"/>
                </a:cubicBezTo>
                <a:cubicBezTo>
                  <a:pt x="1422" y="5861"/>
                  <a:pt x="1385" y="5828"/>
                  <a:pt x="1361" y="5826"/>
                </a:cubicBezTo>
                <a:cubicBezTo>
                  <a:pt x="1509" y="5652"/>
                  <a:pt x="1680" y="5528"/>
                  <a:pt x="1877" y="5409"/>
                </a:cubicBezTo>
                <a:cubicBezTo>
                  <a:pt x="2178" y="5227"/>
                  <a:pt x="2495" y="5077"/>
                  <a:pt x="2817" y="4936"/>
                </a:cubicBezTo>
                <a:cubicBezTo>
                  <a:pt x="2775" y="4965"/>
                  <a:pt x="2759" y="4976"/>
                  <a:pt x="2715" y="5001"/>
                </a:cubicBezTo>
                <a:cubicBezTo>
                  <a:pt x="2456" y="5148"/>
                  <a:pt x="2196" y="5309"/>
                  <a:pt x="1925" y="5428"/>
                </a:cubicBezTo>
                <a:cubicBezTo>
                  <a:pt x="1978" y="5359"/>
                  <a:pt x="2030" y="5309"/>
                  <a:pt x="2109" y="5254"/>
                </a:cubicBezTo>
                <a:cubicBezTo>
                  <a:pt x="2363" y="5076"/>
                  <a:pt x="2758" y="4821"/>
                  <a:pt x="3078" y="4806"/>
                </a:cubicBezTo>
                <a:cubicBezTo>
                  <a:pt x="3132" y="4803"/>
                  <a:pt x="3144" y="4798"/>
                  <a:pt x="3173" y="4817"/>
                </a:cubicBezTo>
                <a:cubicBezTo>
                  <a:pt x="3108" y="4902"/>
                  <a:pt x="3044" y="4956"/>
                  <a:pt x="2946" y="5021"/>
                </a:cubicBezTo>
                <a:cubicBezTo>
                  <a:pt x="2619" y="5236"/>
                  <a:pt x="2259" y="5440"/>
                  <a:pt x="1901" y="5600"/>
                </a:cubicBezTo>
                <a:cubicBezTo>
                  <a:pt x="1871" y="5613"/>
                  <a:pt x="1869" y="5598"/>
                  <a:pt x="1838" y="5607"/>
                </a:cubicBezTo>
                <a:cubicBezTo>
                  <a:pt x="1951" y="5552"/>
                  <a:pt x="2061" y="5502"/>
                  <a:pt x="2182" y="5462"/>
                </a:cubicBezTo>
                <a:cubicBezTo>
                  <a:pt x="2961" y="5205"/>
                  <a:pt x="3772" y="5064"/>
                  <a:pt x="4554" y="4818"/>
                </a:cubicBezTo>
                <a:cubicBezTo>
                  <a:pt x="4689" y="4772"/>
                  <a:pt x="4825" y="4727"/>
                  <a:pt x="4960" y="46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1117440" y="6453360"/>
            <a:ext cx="73080" cy="125280"/>
          </a:xfrm>
          <a:custGeom>
            <a:avLst/>
            <a:gdLst/>
            <a:ahLst/>
            <a:rect l="l" t="t" r="r" b="b"/>
            <a:pathLst>
              <a:path w="203" h="350">
                <a:moveTo>
                  <a:pt x="3308" y="17924"/>
                </a:moveTo>
                <a:cubicBezTo>
                  <a:pt x="3262" y="18002"/>
                  <a:pt x="3215" y="18079"/>
                  <a:pt x="3170" y="18158"/>
                </a:cubicBezTo>
                <a:cubicBezTo>
                  <a:pt x="3138" y="18215"/>
                  <a:pt x="3126" y="18234"/>
                  <a:pt x="3106" y="182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ortant 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Hamilt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J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Image:Hamilton 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295280"/>
            <a:ext cx="2295360" cy="261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John Jay"/>
          <p:cNvPicPr/>
          <p:nvPr/>
        </p:nvPicPr>
        <p:blipFill>
          <a:blip r:embed="rId3"/>
          <a:stretch/>
        </p:blipFill>
        <p:spPr>
          <a:xfrm>
            <a:off x="228600" y="3429000"/>
            <a:ext cx="3581280" cy="3200400"/>
          </a:xfrm>
          <a:prstGeom prst="rect">
            <a:avLst/>
          </a:prstGeom>
          <a:ln w="0">
            <a:noFill/>
          </a:ln>
        </p:spPr>
      </p:pic>
      <p:sp>
        <p:nvSpPr>
          <p:cNvPr id="121" name="Ink 8"/>
          <p:cNvSpPr/>
          <p:nvPr/>
        </p:nvSpPr>
        <p:spPr>
          <a:xfrm>
            <a:off x="898560" y="1469880"/>
            <a:ext cx="3336840" cy="555840"/>
          </a:xfrm>
          <a:custGeom>
            <a:avLst/>
            <a:gdLst/>
            <a:ahLst/>
            <a:rect l="l" t="t" r="r" b="b"/>
            <a:pathLst>
              <a:path w="9270" h="1544">
                <a:moveTo>
                  <a:pt x="3651" y="4696"/>
                </a:moveTo>
                <a:cubicBezTo>
                  <a:pt x="3556" y="4702"/>
                  <a:pt x="3483" y="4689"/>
                  <a:pt x="3370" y="4727"/>
                </a:cubicBezTo>
                <a:cubicBezTo>
                  <a:pt x="3216" y="4779"/>
                  <a:pt x="2800" y="4876"/>
                  <a:pt x="2960" y="4905"/>
                </a:cubicBezTo>
                <a:cubicBezTo>
                  <a:pt x="3009" y="4914"/>
                  <a:pt x="3434" y="4774"/>
                  <a:pt x="3410" y="4894"/>
                </a:cubicBezTo>
                <a:cubicBezTo>
                  <a:pt x="3385" y="5021"/>
                  <a:pt x="3047" y="5081"/>
                  <a:pt x="2955" y="5113"/>
                </a:cubicBezTo>
                <a:cubicBezTo>
                  <a:pt x="2867" y="5131"/>
                  <a:pt x="2780" y="5146"/>
                  <a:pt x="2693" y="5160"/>
                </a:cubicBezTo>
                <a:cubicBezTo>
                  <a:pt x="2712" y="5148"/>
                  <a:pt x="2788" y="5084"/>
                  <a:pt x="2830" y="5064"/>
                </a:cubicBezTo>
                <a:cubicBezTo>
                  <a:pt x="2922" y="5019"/>
                  <a:pt x="3811" y="4655"/>
                  <a:pt x="3867" y="4800"/>
                </a:cubicBezTo>
                <a:cubicBezTo>
                  <a:pt x="3883" y="4841"/>
                  <a:pt x="3730" y="4888"/>
                  <a:pt x="3711" y="4897"/>
                </a:cubicBezTo>
                <a:cubicBezTo>
                  <a:pt x="3339" y="5075"/>
                  <a:pt x="2896" y="5170"/>
                  <a:pt x="2497" y="5259"/>
                </a:cubicBezTo>
                <a:cubicBezTo>
                  <a:pt x="2568" y="5218"/>
                  <a:pt x="2639" y="5172"/>
                  <a:pt x="2716" y="5134"/>
                </a:cubicBezTo>
                <a:cubicBezTo>
                  <a:pt x="2925" y="5033"/>
                  <a:pt x="3137" y="4939"/>
                  <a:pt x="3342" y="4832"/>
                </a:cubicBezTo>
                <a:cubicBezTo>
                  <a:pt x="3278" y="4849"/>
                  <a:pt x="2647" y="4992"/>
                  <a:pt x="2658" y="4953"/>
                </a:cubicBezTo>
                <a:cubicBezTo>
                  <a:pt x="2683" y="4862"/>
                  <a:pt x="2843" y="4805"/>
                  <a:pt x="2915" y="4765"/>
                </a:cubicBezTo>
                <a:cubicBezTo>
                  <a:pt x="3088" y="4669"/>
                  <a:pt x="3667" y="4371"/>
                  <a:pt x="3874" y="4493"/>
                </a:cubicBezTo>
                <a:cubicBezTo>
                  <a:pt x="3949" y="4537"/>
                  <a:pt x="3962" y="4540"/>
                  <a:pt x="3918" y="4626"/>
                </a:cubicBezTo>
                <a:cubicBezTo>
                  <a:pt x="3776" y="4900"/>
                  <a:pt x="3218" y="5034"/>
                  <a:pt x="2949" y="5081"/>
                </a:cubicBezTo>
                <a:cubicBezTo>
                  <a:pt x="2931" y="5079"/>
                  <a:pt x="2912" y="5078"/>
                  <a:pt x="2894" y="5076"/>
                </a:cubicBezTo>
                <a:cubicBezTo>
                  <a:pt x="2900" y="5066"/>
                  <a:pt x="2838" y="5030"/>
                  <a:pt x="2927" y="4962"/>
                </a:cubicBezTo>
                <a:cubicBezTo>
                  <a:pt x="3332" y="4652"/>
                  <a:pt x="4103" y="4679"/>
                  <a:pt x="4580" y="4670"/>
                </a:cubicBezTo>
                <a:cubicBezTo>
                  <a:pt x="4972" y="4662"/>
                  <a:pt x="5349" y="4671"/>
                  <a:pt x="5724" y="4743"/>
                </a:cubicBezTo>
                <a:cubicBezTo>
                  <a:pt x="5658" y="4805"/>
                  <a:pt x="5614" y="4879"/>
                  <a:pt x="5511" y="4939"/>
                </a:cubicBezTo>
                <a:cubicBezTo>
                  <a:pt x="5029" y="5220"/>
                  <a:pt x="4475" y="5459"/>
                  <a:pt x="3944" y="5628"/>
                </a:cubicBezTo>
                <a:cubicBezTo>
                  <a:pt x="3937" y="5626"/>
                  <a:pt x="3929" y="5625"/>
                  <a:pt x="3922" y="5623"/>
                </a:cubicBezTo>
                <a:cubicBezTo>
                  <a:pt x="4017" y="5558"/>
                  <a:pt x="4113" y="5484"/>
                  <a:pt x="4218" y="5423"/>
                </a:cubicBezTo>
                <a:cubicBezTo>
                  <a:pt x="4789" y="5093"/>
                  <a:pt x="5415" y="4856"/>
                  <a:pt x="6035" y="4639"/>
                </a:cubicBezTo>
                <a:cubicBezTo>
                  <a:pt x="5969" y="4678"/>
                  <a:pt x="6077" y="4646"/>
                  <a:pt x="6007" y="4677"/>
                </a:cubicBezTo>
                <a:cubicBezTo>
                  <a:pt x="5211" y="5027"/>
                  <a:pt x="4146" y="5513"/>
                  <a:pt x="3268" y="5545"/>
                </a:cubicBezTo>
                <a:cubicBezTo>
                  <a:pt x="3199" y="5541"/>
                  <a:pt x="3182" y="5549"/>
                  <a:pt x="3157" y="5512"/>
                </a:cubicBezTo>
                <a:cubicBezTo>
                  <a:pt x="3299" y="5396"/>
                  <a:pt x="3415" y="5302"/>
                  <a:pt x="3590" y="5212"/>
                </a:cubicBezTo>
                <a:cubicBezTo>
                  <a:pt x="4522" y="4735"/>
                  <a:pt x="5607" y="4479"/>
                  <a:pt x="6625" y="4264"/>
                </a:cubicBezTo>
                <a:cubicBezTo>
                  <a:pt x="6981" y="4189"/>
                  <a:pt x="7601" y="3971"/>
                  <a:pt x="7969" y="4099"/>
                </a:cubicBezTo>
                <a:cubicBezTo>
                  <a:pt x="8011" y="4130"/>
                  <a:pt x="8026" y="4138"/>
                  <a:pt x="8000" y="4176"/>
                </a:cubicBezTo>
                <a:cubicBezTo>
                  <a:pt x="7717" y="4339"/>
                  <a:pt x="7438" y="4444"/>
                  <a:pt x="7119" y="4532"/>
                </a:cubicBezTo>
                <a:cubicBezTo>
                  <a:pt x="5969" y="4849"/>
                  <a:pt x="4644" y="5134"/>
                  <a:pt x="3444" y="5136"/>
                </a:cubicBezTo>
                <a:cubicBezTo>
                  <a:pt x="3348" y="5136"/>
                  <a:pt x="3329" y="5139"/>
                  <a:pt x="3272" y="5127"/>
                </a:cubicBezTo>
                <a:cubicBezTo>
                  <a:pt x="3377" y="5093"/>
                  <a:pt x="3512" y="5047"/>
                  <a:pt x="3637" y="5025"/>
                </a:cubicBezTo>
                <a:cubicBezTo>
                  <a:pt x="4878" y="4804"/>
                  <a:pt x="6180" y="4674"/>
                  <a:pt x="7439" y="4624"/>
                </a:cubicBezTo>
                <a:cubicBezTo>
                  <a:pt x="7984" y="4602"/>
                  <a:pt x="8512" y="4626"/>
                  <a:pt x="9044" y="4743"/>
                </a:cubicBezTo>
                <a:cubicBezTo>
                  <a:pt x="9009" y="4742"/>
                  <a:pt x="9032" y="4743"/>
                  <a:pt x="8997" y="4742"/>
                </a:cubicBezTo>
                <a:cubicBezTo>
                  <a:pt x="8119" y="4712"/>
                  <a:pt x="7215" y="4889"/>
                  <a:pt x="6382" y="5158"/>
                </a:cubicBezTo>
                <a:cubicBezTo>
                  <a:pt x="6290" y="5188"/>
                  <a:pt x="6204" y="5226"/>
                  <a:pt x="6115" y="5258"/>
                </a:cubicBezTo>
                <a:cubicBezTo>
                  <a:pt x="6152" y="5255"/>
                  <a:pt x="6308" y="5251"/>
                  <a:pt x="6369" y="5241"/>
                </a:cubicBezTo>
                <a:cubicBezTo>
                  <a:pt x="7804" y="5013"/>
                  <a:pt x="9430" y="4264"/>
                  <a:pt x="10895" y="4480"/>
                </a:cubicBezTo>
                <a:cubicBezTo>
                  <a:pt x="10912" y="4489"/>
                  <a:pt x="10929" y="4499"/>
                  <a:pt x="10946" y="4508"/>
                </a:cubicBezTo>
                <a:cubicBezTo>
                  <a:pt x="10844" y="4592"/>
                  <a:pt x="10771" y="4672"/>
                  <a:pt x="10621" y="4738"/>
                </a:cubicBezTo>
                <a:cubicBezTo>
                  <a:pt x="9704" y="5142"/>
                  <a:pt x="8632" y="5303"/>
                  <a:pt x="7648" y="5454"/>
                </a:cubicBezTo>
                <a:cubicBezTo>
                  <a:pt x="7808" y="5421"/>
                  <a:pt x="7968" y="5386"/>
                  <a:pt x="8130" y="5358"/>
                </a:cubicBezTo>
                <a:cubicBezTo>
                  <a:pt x="9289" y="5160"/>
                  <a:pt x="10587" y="4877"/>
                  <a:pt x="11766" y="4914"/>
                </a:cubicBezTo>
                <a:cubicBezTo>
                  <a:pt x="11765" y="4918"/>
                  <a:pt x="11763" y="4923"/>
                  <a:pt x="11762" y="4927"/>
                </a:cubicBezTo>
                <a:cubicBezTo>
                  <a:pt x="11027" y="5161"/>
                  <a:pt x="10280" y="5416"/>
                  <a:pt x="9515" y="5497"/>
                </a:cubicBezTo>
                <a:cubicBezTo>
                  <a:pt x="9576" y="5473"/>
                  <a:pt x="9672" y="5415"/>
                  <a:pt x="9750" y="5391"/>
                </a:cubicBezTo>
                <a:cubicBezTo>
                  <a:pt x="10325" y="5212"/>
                  <a:pt x="10942" y="5164"/>
                  <a:pt x="11506" y="4965"/>
                </a:cubicBezTo>
                <a:cubicBezTo>
                  <a:pt x="11502" y="4962"/>
                  <a:pt x="11499" y="4960"/>
                  <a:pt x="11495" y="4957"/>
                </a:cubicBezTo>
                <a:cubicBezTo>
                  <a:pt x="11267" y="4977"/>
                  <a:pt x="11045" y="5000"/>
                  <a:pt x="10819" y="5043"/>
                </a:cubicBezTo>
                <a:cubicBezTo>
                  <a:pt x="9795" y="5239"/>
                  <a:pt x="8825" y="5546"/>
                  <a:pt x="7782" y="5310"/>
                </a:cubicBezTo>
                <a:cubicBezTo>
                  <a:pt x="7186" y="5175"/>
                  <a:pt x="6664" y="5041"/>
                  <a:pt x="6048" y="5140"/>
                </a:cubicBezTo>
                <a:cubicBezTo>
                  <a:pt x="5767" y="5185"/>
                  <a:pt x="5498" y="5257"/>
                  <a:pt x="5226" y="5338"/>
                </a:cubicBezTo>
                <a:cubicBezTo>
                  <a:pt x="5299" y="5332"/>
                  <a:pt x="5308" y="5351"/>
                  <a:pt x="5380" y="5338"/>
                </a:cubicBezTo>
                <a:cubicBezTo>
                  <a:pt x="6197" y="5193"/>
                  <a:pt x="6958" y="4807"/>
                  <a:pt x="7766" y="4660"/>
                </a:cubicBezTo>
                <a:cubicBezTo>
                  <a:pt x="7795" y="4661"/>
                  <a:pt x="7803" y="4657"/>
                  <a:pt x="7809" y="4678"/>
                </a:cubicBezTo>
                <a:cubicBezTo>
                  <a:pt x="7698" y="4781"/>
                  <a:pt x="7602" y="4874"/>
                  <a:pt x="7469" y="4960"/>
                </a:cubicBezTo>
                <a:cubicBezTo>
                  <a:pt x="6916" y="5317"/>
                  <a:pt x="5917" y="5594"/>
                  <a:pt x="5253" y="5517"/>
                </a:cubicBezTo>
                <a:cubicBezTo>
                  <a:pt x="5206" y="5511"/>
                  <a:pt x="5089" y="5514"/>
                  <a:pt x="5098" y="5442"/>
                </a:cubicBezTo>
                <a:cubicBezTo>
                  <a:pt x="5110" y="5347"/>
                  <a:pt x="5426" y="5369"/>
                  <a:pt x="5504" y="5344"/>
                </a:cubicBezTo>
                <a:cubicBezTo>
                  <a:pt x="5581" y="5319"/>
                  <a:pt x="5640" y="5268"/>
                  <a:pt x="5712" y="52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9"/>
          <p:cNvSpPr/>
          <p:nvPr/>
        </p:nvSpPr>
        <p:spPr>
          <a:xfrm>
            <a:off x="384120" y="2055960"/>
            <a:ext cx="2720880" cy="1547640"/>
          </a:xfrm>
          <a:custGeom>
            <a:avLst/>
            <a:gdLst/>
            <a:ahLst/>
            <a:rect l="l" t="t" r="r" b="b"/>
            <a:pathLst>
              <a:path w="7558" h="4300">
                <a:moveTo>
                  <a:pt x="2983" y="8898"/>
                </a:moveTo>
                <a:cubicBezTo>
                  <a:pt x="2943" y="8912"/>
                  <a:pt x="2562" y="9092"/>
                  <a:pt x="2544" y="8981"/>
                </a:cubicBezTo>
                <a:cubicBezTo>
                  <a:pt x="2531" y="8901"/>
                  <a:pt x="2578" y="8912"/>
                  <a:pt x="2641" y="8865"/>
                </a:cubicBezTo>
                <a:cubicBezTo>
                  <a:pt x="2963" y="8623"/>
                  <a:pt x="4081" y="8766"/>
                  <a:pt x="3774" y="8505"/>
                </a:cubicBezTo>
                <a:cubicBezTo>
                  <a:pt x="3542" y="8307"/>
                  <a:pt x="2633" y="8785"/>
                  <a:pt x="2914" y="8667"/>
                </a:cubicBezTo>
                <a:cubicBezTo>
                  <a:pt x="4136" y="8155"/>
                  <a:pt x="5787" y="8026"/>
                  <a:pt x="7094" y="8106"/>
                </a:cubicBezTo>
                <a:cubicBezTo>
                  <a:pt x="7059" y="8135"/>
                  <a:pt x="7159" y="8155"/>
                  <a:pt x="7116" y="8169"/>
                </a:cubicBezTo>
                <a:cubicBezTo>
                  <a:pt x="6436" y="8394"/>
                  <a:pt x="5675" y="8447"/>
                  <a:pt x="4969" y="8539"/>
                </a:cubicBezTo>
                <a:cubicBezTo>
                  <a:pt x="4171" y="8643"/>
                  <a:pt x="3349" y="8666"/>
                  <a:pt x="2558" y="8811"/>
                </a:cubicBezTo>
                <a:cubicBezTo>
                  <a:pt x="2553" y="8816"/>
                  <a:pt x="2549" y="8820"/>
                  <a:pt x="2544" y="8825"/>
                </a:cubicBezTo>
                <a:cubicBezTo>
                  <a:pt x="2632" y="8838"/>
                  <a:pt x="2723" y="8871"/>
                  <a:pt x="2818" y="8877"/>
                </a:cubicBezTo>
                <a:cubicBezTo>
                  <a:pt x="3886" y="8943"/>
                  <a:pt x="4969" y="8698"/>
                  <a:pt x="6032" y="8624"/>
                </a:cubicBezTo>
                <a:cubicBezTo>
                  <a:pt x="6567" y="8587"/>
                  <a:pt x="7094" y="8590"/>
                  <a:pt x="7629" y="8623"/>
                </a:cubicBezTo>
                <a:cubicBezTo>
                  <a:pt x="7659" y="8628"/>
                  <a:pt x="7978" y="8661"/>
                  <a:pt x="7884" y="8674"/>
                </a:cubicBezTo>
                <a:cubicBezTo>
                  <a:pt x="6784" y="8823"/>
                  <a:pt x="5636" y="8794"/>
                  <a:pt x="4521" y="8943"/>
                </a:cubicBezTo>
                <a:cubicBezTo>
                  <a:pt x="4278" y="8976"/>
                  <a:pt x="4030" y="8990"/>
                  <a:pt x="3794" y="8994"/>
                </a:cubicBezTo>
                <a:cubicBezTo>
                  <a:pt x="3893" y="8965"/>
                  <a:pt x="3993" y="8931"/>
                  <a:pt x="4095" y="8907"/>
                </a:cubicBezTo>
                <a:cubicBezTo>
                  <a:pt x="5432" y="8594"/>
                  <a:pt x="7122" y="8192"/>
                  <a:pt x="8500" y="8407"/>
                </a:cubicBezTo>
                <a:cubicBezTo>
                  <a:pt x="8548" y="8414"/>
                  <a:pt x="8577" y="8444"/>
                  <a:pt x="8625" y="8451"/>
                </a:cubicBezTo>
                <a:cubicBezTo>
                  <a:pt x="8506" y="8485"/>
                  <a:pt x="8387" y="8527"/>
                  <a:pt x="8262" y="8554"/>
                </a:cubicBezTo>
                <a:cubicBezTo>
                  <a:pt x="7060" y="8817"/>
                  <a:pt x="5785" y="8926"/>
                  <a:pt x="4560" y="9023"/>
                </a:cubicBezTo>
                <a:cubicBezTo>
                  <a:pt x="4526" y="9026"/>
                  <a:pt x="3849" y="9092"/>
                  <a:pt x="3845" y="9009"/>
                </a:cubicBezTo>
                <a:cubicBezTo>
                  <a:pt x="3841" y="8921"/>
                  <a:pt x="3955" y="8880"/>
                  <a:pt x="4018" y="8841"/>
                </a:cubicBezTo>
                <a:cubicBezTo>
                  <a:pt x="4706" y="8420"/>
                  <a:pt x="5583" y="8200"/>
                  <a:pt x="6340" y="7942"/>
                </a:cubicBezTo>
                <a:cubicBezTo>
                  <a:pt x="6656" y="7834"/>
                  <a:pt x="7524" y="7633"/>
                  <a:pt x="7191" y="7646"/>
                </a:cubicBezTo>
                <a:cubicBezTo>
                  <a:pt x="7074" y="7669"/>
                  <a:pt x="7025" y="7679"/>
                  <a:pt x="6943" y="7700"/>
                </a:cubicBezTo>
                <a:cubicBezTo>
                  <a:pt x="5765" y="7987"/>
                  <a:pt x="4704" y="8468"/>
                  <a:pt x="3599" y="8951"/>
                </a:cubicBezTo>
                <a:cubicBezTo>
                  <a:pt x="3397" y="9039"/>
                  <a:pt x="3192" y="9094"/>
                  <a:pt x="2995" y="9149"/>
                </a:cubicBezTo>
                <a:cubicBezTo>
                  <a:pt x="3081" y="9081"/>
                  <a:pt x="3162" y="9006"/>
                  <a:pt x="3260" y="8943"/>
                </a:cubicBezTo>
                <a:cubicBezTo>
                  <a:pt x="3891" y="8539"/>
                  <a:pt x="5719" y="8406"/>
                  <a:pt x="5221" y="7845"/>
                </a:cubicBezTo>
                <a:cubicBezTo>
                  <a:pt x="5178" y="7797"/>
                  <a:pt x="5095" y="7822"/>
                  <a:pt x="4982" y="7845"/>
                </a:cubicBezTo>
                <a:cubicBezTo>
                  <a:pt x="4438" y="7955"/>
                  <a:pt x="3246" y="8717"/>
                  <a:pt x="2715" y="8521"/>
                </a:cubicBezTo>
                <a:cubicBezTo>
                  <a:pt x="2600" y="8479"/>
                  <a:pt x="2603" y="8504"/>
                  <a:pt x="2627" y="8378"/>
                </a:cubicBezTo>
                <a:cubicBezTo>
                  <a:pt x="2682" y="8094"/>
                  <a:pt x="3355" y="7796"/>
                  <a:pt x="3571" y="7681"/>
                </a:cubicBezTo>
                <a:cubicBezTo>
                  <a:pt x="3812" y="7553"/>
                  <a:pt x="4061" y="7449"/>
                  <a:pt x="4312" y="7342"/>
                </a:cubicBezTo>
                <a:cubicBezTo>
                  <a:pt x="4277" y="7388"/>
                  <a:pt x="4408" y="7340"/>
                  <a:pt x="4362" y="7376"/>
                </a:cubicBezTo>
                <a:cubicBezTo>
                  <a:pt x="3816" y="7808"/>
                  <a:pt x="3110" y="8283"/>
                  <a:pt x="2481" y="8584"/>
                </a:cubicBezTo>
                <a:cubicBezTo>
                  <a:pt x="2487" y="8564"/>
                  <a:pt x="2496" y="8554"/>
                  <a:pt x="2515" y="8546"/>
                </a:cubicBezTo>
                <a:cubicBezTo>
                  <a:pt x="3009" y="8222"/>
                  <a:pt x="4554" y="7476"/>
                  <a:pt x="3993" y="7659"/>
                </a:cubicBezTo>
                <a:cubicBezTo>
                  <a:pt x="3260" y="7897"/>
                  <a:pt x="2560" y="8340"/>
                  <a:pt x="1853" y="8631"/>
                </a:cubicBezTo>
                <a:cubicBezTo>
                  <a:pt x="2003" y="8508"/>
                  <a:pt x="2145" y="8393"/>
                  <a:pt x="2310" y="8285"/>
                </a:cubicBezTo>
                <a:cubicBezTo>
                  <a:pt x="2731" y="8010"/>
                  <a:pt x="4019" y="7082"/>
                  <a:pt x="4552" y="7229"/>
                </a:cubicBezTo>
                <a:cubicBezTo>
                  <a:pt x="4676" y="7263"/>
                  <a:pt x="4706" y="7228"/>
                  <a:pt x="4598" y="7369"/>
                </a:cubicBezTo>
                <a:cubicBezTo>
                  <a:pt x="4217" y="7867"/>
                  <a:pt x="3205" y="8475"/>
                  <a:pt x="2597" y="8635"/>
                </a:cubicBezTo>
                <a:cubicBezTo>
                  <a:pt x="2546" y="8649"/>
                  <a:pt x="2548" y="8607"/>
                  <a:pt x="2496" y="8619"/>
                </a:cubicBezTo>
                <a:cubicBezTo>
                  <a:pt x="2768" y="8353"/>
                  <a:pt x="3045" y="8110"/>
                  <a:pt x="3356" y="7886"/>
                </a:cubicBezTo>
                <a:cubicBezTo>
                  <a:pt x="3605" y="7707"/>
                  <a:pt x="3863" y="7545"/>
                  <a:pt x="4124" y="7386"/>
                </a:cubicBezTo>
                <a:cubicBezTo>
                  <a:pt x="4225" y="7338"/>
                  <a:pt x="4497" y="7159"/>
                  <a:pt x="4421" y="7242"/>
                </a:cubicBezTo>
                <a:cubicBezTo>
                  <a:pt x="4140" y="7551"/>
                  <a:pt x="3684" y="7772"/>
                  <a:pt x="3346" y="8010"/>
                </a:cubicBezTo>
                <a:cubicBezTo>
                  <a:pt x="2938" y="8297"/>
                  <a:pt x="2537" y="8589"/>
                  <a:pt x="2152" y="8905"/>
                </a:cubicBezTo>
                <a:cubicBezTo>
                  <a:pt x="2167" y="8897"/>
                  <a:pt x="2302" y="8832"/>
                  <a:pt x="2339" y="8811"/>
                </a:cubicBezTo>
                <a:cubicBezTo>
                  <a:pt x="2691" y="8612"/>
                  <a:pt x="4660" y="7291"/>
                  <a:pt x="5001" y="7551"/>
                </a:cubicBezTo>
                <a:cubicBezTo>
                  <a:pt x="5061" y="7597"/>
                  <a:pt x="4774" y="7780"/>
                  <a:pt x="4767" y="7785"/>
                </a:cubicBezTo>
                <a:cubicBezTo>
                  <a:pt x="4215" y="8247"/>
                  <a:pt x="3425" y="8748"/>
                  <a:pt x="2744" y="8997"/>
                </a:cubicBezTo>
                <a:cubicBezTo>
                  <a:pt x="2648" y="9032"/>
                  <a:pt x="2587" y="9070"/>
                  <a:pt x="2533" y="8976"/>
                </a:cubicBezTo>
                <a:cubicBezTo>
                  <a:pt x="2436" y="8806"/>
                  <a:pt x="2793" y="8445"/>
                  <a:pt x="2632" y="8297"/>
                </a:cubicBezTo>
                <a:cubicBezTo>
                  <a:pt x="2539" y="8211"/>
                  <a:pt x="2275" y="8344"/>
                  <a:pt x="2189" y="8375"/>
                </a:cubicBezTo>
                <a:cubicBezTo>
                  <a:pt x="1864" y="8493"/>
                  <a:pt x="1083" y="9094"/>
                  <a:pt x="1239" y="8785"/>
                </a:cubicBezTo>
                <a:cubicBezTo>
                  <a:pt x="1291" y="8682"/>
                  <a:pt x="1507" y="8598"/>
                  <a:pt x="1595" y="8546"/>
                </a:cubicBezTo>
                <a:cubicBezTo>
                  <a:pt x="1876" y="8379"/>
                  <a:pt x="2912" y="7674"/>
                  <a:pt x="3260" y="7806"/>
                </a:cubicBezTo>
                <a:cubicBezTo>
                  <a:pt x="3344" y="7838"/>
                  <a:pt x="3210" y="7917"/>
                  <a:pt x="3177" y="7949"/>
                </a:cubicBezTo>
                <a:cubicBezTo>
                  <a:pt x="2762" y="8355"/>
                  <a:pt x="2184" y="8652"/>
                  <a:pt x="1690" y="8949"/>
                </a:cubicBezTo>
                <a:cubicBezTo>
                  <a:pt x="1628" y="8954"/>
                  <a:pt x="1510" y="9068"/>
                  <a:pt x="1537" y="9011"/>
                </a:cubicBezTo>
                <a:cubicBezTo>
                  <a:pt x="1651" y="8771"/>
                  <a:pt x="2034" y="8551"/>
                  <a:pt x="2235" y="8403"/>
                </a:cubicBezTo>
                <a:cubicBezTo>
                  <a:pt x="2536" y="8182"/>
                  <a:pt x="2853" y="7986"/>
                  <a:pt x="3176" y="7799"/>
                </a:cubicBezTo>
                <a:cubicBezTo>
                  <a:pt x="3189" y="7793"/>
                  <a:pt x="3598" y="7572"/>
                  <a:pt x="3606" y="7620"/>
                </a:cubicBezTo>
                <a:cubicBezTo>
                  <a:pt x="3618" y="7692"/>
                  <a:pt x="3315" y="7865"/>
                  <a:pt x="3281" y="7891"/>
                </a:cubicBezTo>
                <a:cubicBezTo>
                  <a:pt x="3184" y="7967"/>
                  <a:pt x="1861" y="8858"/>
                  <a:pt x="1912" y="8919"/>
                </a:cubicBezTo>
                <a:cubicBezTo>
                  <a:pt x="1952" y="8967"/>
                  <a:pt x="2103" y="8888"/>
                  <a:pt x="2143" y="8874"/>
                </a:cubicBezTo>
                <a:cubicBezTo>
                  <a:pt x="3148" y="8531"/>
                  <a:pt x="4122" y="7820"/>
                  <a:pt x="5215" y="7789"/>
                </a:cubicBezTo>
                <a:cubicBezTo>
                  <a:pt x="5383" y="7784"/>
                  <a:pt x="5666" y="7805"/>
                  <a:pt x="5689" y="8026"/>
                </a:cubicBezTo>
                <a:cubicBezTo>
                  <a:pt x="5717" y="8297"/>
                  <a:pt x="5410" y="8546"/>
                  <a:pt x="5238" y="8706"/>
                </a:cubicBezTo>
                <a:cubicBezTo>
                  <a:pt x="5202" y="8739"/>
                  <a:pt x="4664" y="9176"/>
                  <a:pt x="4700" y="9206"/>
                </a:cubicBezTo>
                <a:cubicBezTo>
                  <a:pt x="4780" y="9271"/>
                  <a:pt x="5009" y="9158"/>
                  <a:pt x="5085" y="9149"/>
                </a:cubicBezTo>
                <a:cubicBezTo>
                  <a:pt x="5967" y="8899"/>
                  <a:pt x="6830" y="8606"/>
                  <a:pt x="7739" y="8473"/>
                </a:cubicBezTo>
                <a:cubicBezTo>
                  <a:pt x="7764" y="8473"/>
                  <a:pt x="8131" y="8429"/>
                  <a:pt x="8138" y="8507"/>
                </a:cubicBezTo>
                <a:cubicBezTo>
                  <a:pt x="8142" y="8551"/>
                  <a:pt x="8112" y="8537"/>
                  <a:pt x="8076" y="8564"/>
                </a:cubicBezTo>
                <a:cubicBezTo>
                  <a:pt x="8009" y="8615"/>
                  <a:pt x="7435" y="8754"/>
                  <a:pt x="7417" y="8708"/>
                </a:cubicBezTo>
                <a:cubicBezTo>
                  <a:pt x="7414" y="8700"/>
                  <a:pt x="7680" y="8465"/>
                  <a:pt x="7613" y="8449"/>
                </a:cubicBezTo>
                <a:cubicBezTo>
                  <a:pt x="7535" y="8430"/>
                  <a:pt x="7417" y="8495"/>
                  <a:pt x="7347" y="8518"/>
                </a:cubicBezTo>
                <a:cubicBezTo>
                  <a:pt x="6959" y="8646"/>
                  <a:pt x="6279" y="9420"/>
                  <a:pt x="6233" y="9014"/>
                </a:cubicBezTo>
                <a:cubicBezTo>
                  <a:pt x="6226" y="8954"/>
                  <a:pt x="6413" y="8806"/>
                  <a:pt x="6447" y="8770"/>
                </a:cubicBezTo>
                <a:cubicBezTo>
                  <a:pt x="6494" y="8720"/>
                  <a:pt x="7113" y="8109"/>
                  <a:pt x="7111" y="8108"/>
                </a:cubicBezTo>
                <a:cubicBezTo>
                  <a:pt x="7070" y="8080"/>
                  <a:pt x="6935" y="8170"/>
                  <a:pt x="6904" y="8183"/>
                </a:cubicBezTo>
                <a:cubicBezTo>
                  <a:pt x="6450" y="8378"/>
                  <a:pt x="5456" y="9345"/>
                  <a:pt x="5686" y="8908"/>
                </a:cubicBezTo>
                <a:cubicBezTo>
                  <a:pt x="5723" y="8838"/>
                  <a:pt x="5890" y="8761"/>
                  <a:pt x="5948" y="8718"/>
                </a:cubicBezTo>
                <a:cubicBezTo>
                  <a:pt x="6444" y="8404"/>
                  <a:pt x="7921" y="7482"/>
                  <a:pt x="7494" y="7885"/>
                </a:cubicBezTo>
                <a:cubicBezTo>
                  <a:pt x="7420" y="7955"/>
                  <a:pt x="7307" y="7998"/>
                  <a:pt x="7225" y="8055"/>
                </a:cubicBezTo>
                <a:cubicBezTo>
                  <a:pt x="6853" y="8278"/>
                  <a:pt x="5513" y="9454"/>
                  <a:pt x="5103" y="9352"/>
                </a:cubicBezTo>
                <a:cubicBezTo>
                  <a:pt x="4980" y="9321"/>
                  <a:pt x="5193" y="9149"/>
                  <a:pt x="5228" y="9104"/>
                </a:cubicBezTo>
                <a:cubicBezTo>
                  <a:pt x="5768" y="8413"/>
                  <a:pt x="8060" y="7809"/>
                  <a:pt x="7263" y="7443"/>
                </a:cubicBezTo>
                <a:cubicBezTo>
                  <a:pt x="7180" y="7405"/>
                  <a:pt x="6932" y="7576"/>
                  <a:pt x="6864" y="7614"/>
                </a:cubicBezTo>
                <a:cubicBezTo>
                  <a:pt x="6653" y="7731"/>
                  <a:pt x="4711" y="9141"/>
                  <a:pt x="4621" y="9062"/>
                </a:cubicBezTo>
                <a:cubicBezTo>
                  <a:pt x="4560" y="9008"/>
                  <a:pt x="4789" y="8826"/>
                  <a:pt x="4821" y="8790"/>
                </a:cubicBezTo>
                <a:cubicBezTo>
                  <a:pt x="5430" y="8108"/>
                  <a:pt x="6299" y="7623"/>
                  <a:pt x="7069" y="7147"/>
                </a:cubicBezTo>
                <a:cubicBezTo>
                  <a:pt x="6820" y="7300"/>
                  <a:pt x="6575" y="7455"/>
                  <a:pt x="6335" y="7624"/>
                </a:cubicBezTo>
                <a:cubicBezTo>
                  <a:pt x="5724" y="8054"/>
                  <a:pt x="4332" y="9642"/>
                  <a:pt x="4601" y="8945"/>
                </a:cubicBezTo>
                <a:cubicBezTo>
                  <a:pt x="4804" y="8419"/>
                  <a:pt x="6140" y="7837"/>
                  <a:pt x="6592" y="7547"/>
                </a:cubicBezTo>
                <a:cubicBezTo>
                  <a:pt x="6741" y="7450"/>
                  <a:pt x="7202" y="7201"/>
                  <a:pt x="7031" y="7248"/>
                </a:cubicBezTo>
                <a:cubicBezTo>
                  <a:pt x="6862" y="7295"/>
                  <a:pt x="6686" y="7445"/>
                  <a:pt x="6545" y="7539"/>
                </a:cubicBezTo>
                <a:cubicBezTo>
                  <a:pt x="5856" y="7998"/>
                  <a:pt x="5226" y="8690"/>
                  <a:pt x="4483" y="9051"/>
                </a:cubicBezTo>
                <a:cubicBezTo>
                  <a:pt x="4478" y="9047"/>
                  <a:pt x="4473" y="9042"/>
                  <a:pt x="4468" y="9038"/>
                </a:cubicBezTo>
                <a:cubicBezTo>
                  <a:pt x="4628" y="8855"/>
                  <a:pt x="4788" y="8682"/>
                  <a:pt x="4972" y="8517"/>
                </a:cubicBezTo>
                <a:cubicBezTo>
                  <a:pt x="5642" y="7918"/>
                  <a:pt x="7805" y="6622"/>
                  <a:pt x="6981" y="6980"/>
                </a:cubicBezTo>
                <a:cubicBezTo>
                  <a:pt x="6667" y="7116"/>
                  <a:pt x="4019" y="8810"/>
                  <a:pt x="3911" y="8682"/>
                </a:cubicBezTo>
                <a:cubicBezTo>
                  <a:pt x="3880" y="8645"/>
                  <a:pt x="4068" y="8519"/>
                  <a:pt x="4083" y="8507"/>
                </a:cubicBezTo>
                <a:cubicBezTo>
                  <a:pt x="4224" y="8396"/>
                  <a:pt x="4279" y="8354"/>
                  <a:pt x="4380" y="8282"/>
                </a:cubicBezTo>
                <a:cubicBezTo>
                  <a:pt x="4714" y="8058"/>
                  <a:pt x="5644" y="7283"/>
                  <a:pt x="6074" y="7364"/>
                </a:cubicBezTo>
                <a:cubicBezTo>
                  <a:pt x="6246" y="7397"/>
                  <a:pt x="5978" y="7563"/>
                  <a:pt x="5922" y="7616"/>
                </a:cubicBezTo>
                <a:cubicBezTo>
                  <a:pt x="5028" y="8474"/>
                  <a:pt x="2685" y="11182"/>
                  <a:pt x="3082" y="10008"/>
                </a:cubicBezTo>
                <a:cubicBezTo>
                  <a:pt x="3137" y="9844"/>
                  <a:pt x="3310" y="9700"/>
                  <a:pt x="3425" y="9577"/>
                </a:cubicBezTo>
                <a:cubicBezTo>
                  <a:pt x="4250" y="8694"/>
                  <a:pt x="5193" y="7930"/>
                  <a:pt x="6126" y="7166"/>
                </a:cubicBezTo>
                <a:cubicBezTo>
                  <a:pt x="5873" y="7359"/>
                  <a:pt x="3739" y="9281"/>
                  <a:pt x="3609" y="9155"/>
                </a:cubicBezTo>
                <a:cubicBezTo>
                  <a:pt x="3546" y="9094"/>
                  <a:pt x="3796" y="8841"/>
                  <a:pt x="3813" y="8818"/>
                </a:cubicBezTo>
                <a:cubicBezTo>
                  <a:pt x="4138" y="8382"/>
                  <a:pt x="4606" y="8036"/>
                  <a:pt x="5034" y="7710"/>
                </a:cubicBezTo>
                <a:cubicBezTo>
                  <a:pt x="5062" y="7692"/>
                  <a:pt x="5424" y="7393"/>
                  <a:pt x="5482" y="7480"/>
                </a:cubicBezTo>
                <a:cubicBezTo>
                  <a:pt x="5531" y="7553"/>
                  <a:pt x="5006" y="7982"/>
                  <a:pt x="4980" y="8005"/>
                </a:cubicBezTo>
                <a:cubicBezTo>
                  <a:pt x="4561" y="8380"/>
                  <a:pt x="3651" y="9415"/>
                  <a:pt x="3049" y="9451"/>
                </a:cubicBezTo>
                <a:cubicBezTo>
                  <a:pt x="2855" y="9462"/>
                  <a:pt x="2966" y="9335"/>
                  <a:pt x="3009" y="9212"/>
                </a:cubicBezTo>
                <a:cubicBezTo>
                  <a:pt x="3267" y="8480"/>
                  <a:pt x="4267" y="7778"/>
                  <a:pt x="4856" y="7321"/>
                </a:cubicBezTo>
                <a:cubicBezTo>
                  <a:pt x="5038" y="7180"/>
                  <a:pt x="5041" y="7174"/>
                  <a:pt x="4860" y="7327"/>
                </a:cubicBezTo>
                <a:cubicBezTo>
                  <a:pt x="4719" y="7437"/>
                  <a:pt x="3156" y="8654"/>
                  <a:pt x="3140" y="8623"/>
                </a:cubicBezTo>
                <a:cubicBezTo>
                  <a:pt x="3100" y="8545"/>
                  <a:pt x="3138" y="8514"/>
                  <a:pt x="3202" y="8410"/>
                </a:cubicBezTo>
                <a:cubicBezTo>
                  <a:pt x="3281" y="8282"/>
                  <a:pt x="4302" y="7255"/>
                  <a:pt x="4271" y="7224"/>
                </a:cubicBezTo>
                <a:cubicBezTo>
                  <a:pt x="4218" y="7170"/>
                  <a:pt x="3921" y="7407"/>
                  <a:pt x="3899" y="7422"/>
                </a:cubicBezTo>
                <a:cubicBezTo>
                  <a:pt x="3352" y="7803"/>
                  <a:pt x="2867" y="8276"/>
                  <a:pt x="2381" y="8730"/>
                </a:cubicBezTo>
                <a:cubicBezTo>
                  <a:pt x="2289" y="8821"/>
                  <a:pt x="2021" y="9092"/>
                  <a:pt x="2099" y="8989"/>
                </a:cubicBezTo>
                <a:cubicBezTo>
                  <a:pt x="2163" y="8905"/>
                  <a:pt x="2244" y="8836"/>
                  <a:pt x="2314" y="8757"/>
                </a:cubicBezTo>
                <a:cubicBezTo>
                  <a:pt x="2977" y="8145"/>
                  <a:pt x="3712" y="7590"/>
                  <a:pt x="4496" y="7154"/>
                </a:cubicBezTo>
                <a:cubicBezTo>
                  <a:pt x="4257" y="7370"/>
                  <a:pt x="4013" y="7581"/>
                  <a:pt x="3772" y="7796"/>
                </a:cubicBezTo>
                <a:cubicBezTo>
                  <a:pt x="3693" y="7866"/>
                  <a:pt x="2661" y="8857"/>
                  <a:pt x="2591" y="8791"/>
                </a:cubicBezTo>
                <a:cubicBezTo>
                  <a:pt x="2521" y="8725"/>
                  <a:pt x="2681" y="8548"/>
                  <a:pt x="2709" y="8497"/>
                </a:cubicBezTo>
                <a:cubicBezTo>
                  <a:pt x="3113" y="7756"/>
                  <a:pt x="4129" y="6949"/>
                  <a:pt x="4918" y="6671"/>
                </a:cubicBezTo>
                <a:cubicBezTo>
                  <a:pt x="4934" y="6674"/>
                  <a:pt x="4949" y="6676"/>
                  <a:pt x="4965" y="6679"/>
                </a:cubicBezTo>
                <a:cubicBezTo>
                  <a:pt x="4843" y="6838"/>
                  <a:pt x="4728" y="7002"/>
                  <a:pt x="4576" y="7154"/>
                </a:cubicBezTo>
                <a:cubicBezTo>
                  <a:pt x="4219" y="7511"/>
                  <a:pt x="2729" y="9303"/>
                  <a:pt x="2177" y="9194"/>
                </a:cubicBezTo>
                <a:cubicBezTo>
                  <a:pt x="2016" y="9162"/>
                  <a:pt x="2186" y="8979"/>
                  <a:pt x="2225" y="8901"/>
                </a:cubicBezTo>
                <a:cubicBezTo>
                  <a:pt x="2375" y="8599"/>
                  <a:pt x="3888" y="7372"/>
                  <a:pt x="3803" y="7140"/>
                </a:cubicBezTo>
                <a:cubicBezTo>
                  <a:pt x="3779" y="7074"/>
                  <a:pt x="3504" y="7309"/>
                  <a:pt x="3492" y="7318"/>
                </a:cubicBezTo>
                <a:cubicBezTo>
                  <a:pt x="3209" y="7538"/>
                  <a:pt x="1875" y="9120"/>
                  <a:pt x="1461" y="9041"/>
                </a:cubicBezTo>
                <a:cubicBezTo>
                  <a:pt x="1305" y="9011"/>
                  <a:pt x="1458" y="9022"/>
                  <a:pt x="1449" y="8878"/>
                </a:cubicBezTo>
                <a:cubicBezTo>
                  <a:pt x="2116" y="8018"/>
                  <a:pt x="3005" y="7283"/>
                  <a:pt x="3983" y="6798"/>
                </a:cubicBezTo>
                <a:cubicBezTo>
                  <a:pt x="4113" y="6734"/>
                  <a:pt x="4213" y="6750"/>
                  <a:pt x="4312" y="6721"/>
                </a:cubicBezTo>
                <a:cubicBezTo>
                  <a:pt x="4160" y="6945"/>
                  <a:pt x="3999" y="7133"/>
                  <a:pt x="3803" y="7331"/>
                </a:cubicBezTo>
                <a:cubicBezTo>
                  <a:pt x="3076" y="8062"/>
                  <a:pt x="2322" y="8956"/>
                  <a:pt x="1433" y="9505"/>
                </a:cubicBezTo>
                <a:cubicBezTo>
                  <a:pt x="1359" y="9551"/>
                  <a:pt x="1184" y="9677"/>
                  <a:pt x="1087" y="9621"/>
                </a:cubicBezTo>
                <a:cubicBezTo>
                  <a:pt x="1047" y="9564"/>
                  <a:pt x="1041" y="9515"/>
                  <a:pt x="1068" y="9446"/>
                </a:cubicBezTo>
                <a:cubicBezTo>
                  <a:pt x="1353" y="8638"/>
                  <a:pt x="1864" y="7970"/>
                  <a:pt x="2463" y="7360"/>
                </a:cubicBezTo>
                <a:cubicBezTo>
                  <a:pt x="3215" y="6595"/>
                  <a:pt x="4869" y="5351"/>
                  <a:pt x="6080" y="5728"/>
                </a:cubicBezTo>
                <a:cubicBezTo>
                  <a:pt x="6164" y="5754"/>
                  <a:pt x="6205" y="5838"/>
                  <a:pt x="6239" y="585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331920" y="1305000"/>
            <a:ext cx="1074600" cy="803160"/>
          </a:xfrm>
          <a:custGeom>
            <a:avLst/>
            <a:gdLst/>
            <a:ahLst/>
            <a:rect l="l" t="t" r="r" b="b"/>
            <a:pathLst>
              <a:path w="2985" h="2231">
                <a:moveTo>
                  <a:pt x="3232" y="3814"/>
                </a:moveTo>
                <a:cubicBezTo>
                  <a:pt x="2984" y="4036"/>
                  <a:pt x="2732" y="4250"/>
                  <a:pt x="2474" y="4460"/>
                </a:cubicBezTo>
                <a:cubicBezTo>
                  <a:pt x="2243" y="4648"/>
                  <a:pt x="2015" y="4842"/>
                  <a:pt x="1777" y="5020"/>
                </a:cubicBezTo>
                <a:cubicBezTo>
                  <a:pt x="1653" y="5113"/>
                  <a:pt x="1458" y="5220"/>
                  <a:pt x="1380" y="5360"/>
                </a:cubicBezTo>
                <a:cubicBezTo>
                  <a:pt x="1370" y="5381"/>
                  <a:pt x="1380" y="5384"/>
                  <a:pt x="1421" y="5365"/>
                </a:cubicBezTo>
                <a:cubicBezTo>
                  <a:pt x="1592" y="5269"/>
                  <a:pt x="1762" y="5178"/>
                  <a:pt x="1926" y="5071"/>
                </a:cubicBezTo>
                <a:cubicBezTo>
                  <a:pt x="2305" y="4824"/>
                  <a:pt x="2675" y="4557"/>
                  <a:pt x="3022" y="4267"/>
                </a:cubicBezTo>
                <a:cubicBezTo>
                  <a:pt x="3092" y="4189"/>
                  <a:pt x="3097" y="4193"/>
                  <a:pt x="3002" y="4265"/>
                </a:cubicBezTo>
                <a:cubicBezTo>
                  <a:pt x="2415" y="4710"/>
                  <a:pt x="1881" y="5224"/>
                  <a:pt x="1319" y="5698"/>
                </a:cubicBezTo>
                <a:cubicBezTo>
                  <a:pt x="1448" y="5558"/>
                  <a:pt x="1583" y="5424"/>
                  <a:pt x="1723" y="5294"/>
                </a:cubicBezTo>
                <a:cubicBezTo>
                  <a:pt x="2278" y="4778"/>
                  <a:pt x="2877" y="4223"/>
                  <a:pt x="3545" y="3855"/>
                </a:cubicBezTo>
                <a:cubicBezTo>
                  <a:pt x="3556" y="3851"/>
                  <a:pt x="3566" y="3846"/>
                  <a:pt x="3577" y="3842"/>
                </a:cubicBezTo>
                <a:cubicBezTo>
                  <a:pt x="3445" y="3967"/>
                  <a:pt x="3307" y="4084"/>
                  <a:pt x="3164" y="4199"/>
                </a:cubicBezTo>
                <a:cubicBezTo>
                  <a:pt x="2540" y="4704"/>
                  <a:pt x="1918" y="5249"/>
                  <a:pt x="1233" y="5673"/>
                </a:cubicBezTo>
                <a:cubicBezTo>
                  <a:pt x="1120" y="5743"/>
                  <a:pt x="1104" y="5720"/>
                  <a:pt x="1014" y="5720"/>
                </a:cubicBezTo>
                <a:cubicBezTo>
                  <a:pt x="1149" y="5442"/>
                  <a:pt x="1340" y="5225"/>
                  <a:pt x="1555" y="5001"/>
                </a:cubicBezTo>
                <a:cubicBezTo>
                  <a:pt x="1942" y="4599"/>
                  <a:pt x="2594" y="3864"/>
                  <a:pt x="3190" y="3765"/>
                </a:cubicBezTo>
                <a:cubicBezTo>
                  <a:pt x="3197" y="3770"/>
                  <a:pt x="3204" y="3774"/>
                  <a:pt x="3211" y="3779"/>
                </a:cubicBezTo>
                <a:cubicBezTo>
                  <a:pt x="3061" y="3929"/>
                  <a:pt x="2906" y="4060"/>
                  <a:pt x="2738" y="4193"/>
                </a:cubicBezTo>
                <a:cubicBezTo>
                  <a:pt x="2295" y="4544"/>
                  <a:pt x="1856" y="4901"/>
                  <a:pt x="1423" y="5265"/>
                </a:cubicBezTo>
                <a:cubicBezTo>
                  <a:pt x="1316" y="5355"/>
                  <a:pt x="1206" y="5439"/>
                  <a:pt x="1100" y="5530"/>
                </a:cubicBezTo>
                <a:cubicBezTo>
                  <a:pt x="1087" y="5542"/>
                  <a:pt x="1074" y="5555"/>
                  <a:pt x="1061" y="5567"/>
                </a:cubicBezTo>
                <a:cubicBezTo>
                  <a:pt x="1234" y="5401"/>
                  <a:pt x="1411" y="5240"/>
                  <a:pt x="1596" y="5086"/>
                </a:cubicBezTo>
                <a:cubicBezTo>
                  <a:pt x="2282" y="4516"/>
                  <a:pt x="3019" y="3979"/>
                  <a:pt x="3845" y="3633"/>
                </a:cubicBezTo>
                <a:cubicBezTo>
                  <a:pt x="3904" y="3697"/>
                  <a:pt x="3879" y="3690"/>
                  <a:pt x="3717" y="3824"/>
                </a:cubicBezTo>
                <a:cubicBezTo>
                  <a:pt x="2997" y="4422"/>
                  <a:pt x="2255" y="5012"/>
                  <a:pt x="1492" y="5555"/>
                </a:cubicBezTo>
                <a:cubicBezTo>
                  <a:pt x="1373" y="5640"/>
                  <a:pt x="1254" y="5735"/>
                  <a:pt x="1121" y="5798"/>
                </a:cubicBezTo>
                <a:cubicBezTo>
                  <a:pt x="1013" y="5849"/>
                  <a:pt x="1015" y="5828"/>
                  <a:pt x="921" y="5821"/>
                </a:cubicBezTo>
                <a:cubicBezTo>
                  <a:pt x="996" y="5605"/>
                  <a:pt x="1104" y="5429"/>
                  <a:pt x="1256" y="5252"/>
                </a:cubicBezTo>
                <a:cubicBezTo>
                  <a:pt x="1298" y="5203"/>
                  <a:pt x="1362" y="5120"/>
                  <a:pt x="1432" y="5108"/>
                </a:cubicBezTo>
                <a:cubicBezTo>
                  <a:pt x="1460" y="5103"/>
                  <a:pt x="1480" y="5134"/>
                  <a:pt x="1508" y="5140"/>
                </a:cubicBezTo>
                <a:cubicBezTo>
                  <a:pt x="1543" y="5148"/>
                  <a:pt x="1578" y="5165"/>
                  <a:pt x="1613" y="5175"/>
                </a:cubicBezTo>
                <a:cubicBezTo>
                  <a:pt x="1814" y="5232"/>
                  <a:pt x="2032" y="5234"/>
                  <a:pt x="2239" y="524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ifederalis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eople who opposed the Constitution.  They thought the Constitutional Convention should not have created a new government and that the Constitution gave too much power to the central (federal)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lso believed the Constitution needed a section guaranteeing individual rights (Bill of Righ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4"/>
          <p:cNvSpPr/>
          <p:nvPr/>
        </p:nvSpPr>
        <p:spPr>
          <a:xfrm>
            <a:off x="723960" y="1459080"/>
            <a:ext cx="6335640" cy="750600"/>
          </a:xfrm>
          <a:custGeom>
            <a:avLst/>
            <a:gdLst/>
            <a:ahLst/>
            <a:rect l="l" t="t" r="r" b="b"/>
            <a:pathLst>
              <a:path w="17599" h="2083">
                <a:moveTo>
                  <a:pt x="6010" y="4877"/>
                </a:moveTo>
                <a:cubicBezTo>
                  <a:pt x="5670" y="5129"/>
                  <a:pt x="5333" y="5331"/>
                  <a:pt x="4951" y="5527"/>
                </a:cubicBezTo>
                <a:cubicBezTo>
                  <a:pt x="4708" y="5641"/>
                  <a:pt x="4069" y="5996"/>
                  <a:pt x="4266" y="5813"/>
                </a:cubicBezTo>
                <a:cubicBezTo>
                  <a:pt x="4956" y="5171"/>
                  <a:pt x="7775" y="4995"/>
                  <a:pt x="6860" y="4771"/>
                </a:cubicBezTo>
                <a:cubicBezTo>
                  <a:pt x="5856" y="4525"/>
                  <a:pt x="4057" y="5521"/>
                  <a:pt x="2938" y="5537"/>
                </a:cubicBezTo>
                <a:cubicBezTo>
                  <a:pt x="2964" y="5498"/>
                  <a:pt x="2884" y="5365"/>
                  <a:pt x="3066" y="5217"/>
                </a:cubicBezTo>
                <a:cubicBezTo>
                  <a:pt x="3918" y="4526"/>
                  <a:pt x="5348" y="4175"/>
                  <a:pt x="6417" y="4066"/>
                </a:cubicBezTo>
                <a:cubicBezTo>
                  <a:pt x="6550" y="4052"/>
                  <a:pt x="6662" y="4087"/>
                  <a:pt x="6781" y="4085"/>
                </a:cubicBezTo>
                <a:cubicBezTo>
                  <a:pt x="6650" y="4148"/>
                  <a:pt x="6507" y="4261"/>
                  <a:pt x="6347" y="4320"/>
                </a:cubicBezTo>
                <a:cubicBezTo>
                  <a:pt x="5477" y="4639"/>
                  <a:pt x="3610" y="5431"/>
                  <a:pt x="2682" y="5122"/>
                </a:cubicBezTo>
                <a:cubicBezTo>
                  <a:pt x="2573" y="5086"/>
                  <a:pt x="2791" y="5007"/>
                  <a:pt x="2783" y="5004"/>
                </a:cubicBezTo>
                <a:cubicBezTo>
                  <a:pt x="3979" y="4683"/>
                  <a:pt x="5199" y="4596"/>
                  <a:pt x="6438" y="4629"/>
                </a:cubicBezTo>
                <a:cubicBezTo>
                  <a:pt x="6989" y="4644"/>
                  <a:pt x="7542" y="4666"/>
                  <a:pt x="8052" y="4872"/>
                </a:cubicBezTo>
                <a:cubicBezTo>
                  <a:pt x="8058" y="4889"/>
                  <a:pt x="8064" y="4906"/>
                  <a:pt x="8070" y="4923"/>
                </a:cubicBezTo>
                <a:cubicBezTo>
                  <a:pt x="7902" y="4981"/>
                  <a:pt x="7760" y="5066"/>
                  <a:pt x="7555" y="5097"/>
                </a:cubicBezTo>
                <a:cubicBezTo>
                  <a:pt x="5887" y="5349"/>
                  <a:pt x="4101" y="5400"/>
                  <a:pt x="2415" y="5448"/>
                </a:cubicBezTo>
                <a:cubicBezTo>
                  <a:pt x="2279" y="5452"/>
                  <a:pt x="2148" y="5427"/>
                  <a:pt x="2017" y="5424"/>
                </a:cubicBezTo>
                <a:cubicBezTo>
                  <a:pt x="2086" y="5393"/>
                  <a:pt x="2238" y="5278"/>
                  <a:pt x="2357" y="5241"/>
                </a:cubicBezTo>
                <a:cubicBezTo>
                  <a:pt x="4074" y="4702"/>
                  <a:pt x="6062" y="4571"/>
                  <a:pt x="7852" y="4640"/>
                </a:cubicBezTo>
                <a:cubicBezTo>
                  <a:pt x="8053" y="4648"/>
                  <a:pt x="8253" y="4665"/>
                  <a:pt x="8454" y="4676"/>
                </a:cubicBezTo>
                <a:cubicBezTo>
                  <a:pt x="8372" y="4696"/>
                  <a:pt x="8519" y="4722"/>
                  <a:pt x="8435" y="4732"/>
                </a:cubicBezTo>
                <a:cubicBezTo>
                  <a:pt x="6394" y="4984"/>
                  <a:pt x="4332" y="5066"/>
                  <a:pt x="2288" y="5328"/>
                </a:cubicBezTo>
                <a:cubicBezTo>
                  <a:pt x="2984" y="5222"/>
                  <a:pt x="3682" y="5135"/>
                  <a:pt x="4382" y="5055"/>
                </a:cubicBezTo>
                <a:cubicBezTo>
                  <a:pt x="8530" y="4583"/>
                  <a:pt x="12517" y="4763"/>
                  <a:pt x="16605" y="5553"/>
                </a:cubicBezTo>
                <a:cubicBezTo>
                  <a:pt x="16735" y="5578"/>
                  <a:pt x="16720" y="5586"/>
                  <a:pt x="16852" y="5576"/>
                </a:cubicBezTo>
                <a:cubicBezTo>
                  <a:pt x="16797" y="5560"/>
                  <a:pt x="16743" y="5544"/>
                  <a:pt x="16688" y="5528"/>
                </a:cubicBezTo>
                <a:cubicBezTo>
                  <a:pt x="13707" y="4839"/>
                  <a:pt x="10641" y="4677"/>
                  <a:pt x="7595" y="4954"/>
                </a:cubicBezTo>
                <a:cubicBezTo>
                  <a:pt x="6633" y="5042"/>
                  <a:pt x="5568" y="5114"/>
                  <a:pt x="4645" y="5429"/>
                </a:cubicBezTo>
                <a:cubicBezTo>
                  <a:pt x="4569" y="5461"/>
                  <a:pt x="4547" y="5453"/>
                  <a:pt x="4532" y="5501"/>
                </a:cubicBezTo>
                <a:cubicBezTo>
                  <a:pt x="4804" y="5500"/>
                  <a:pt x="5072" y="5504"/>
                  <a:pt x="5349" y="5484"/>
                </a:cubicBezTo>
                <a:cubicBezTo>
                  <a:pt x="10151" y="5130"/>
                  <a:pt x="14785" y="5363"/>
                  <a:pt x="19570" y="5791"/>
                </a:cubicBezTo>
                <a:cubicBezTo>
                  <a:pt x="19381" y="5756"/>
                  <a:pt x="19270" y="5723"/>
                  <a:pt x="19080" y="5694"/>
                </a:cubicBezTo>
                <a:cubicBezTo>
                  <a:pt x="14179" y="4944"/>
                  <a:pt x="9448" y="5892"/>
                  <a:pt x="4575" y="6122"/>
                </a:cubicBezTo>
                <a:cubicBezTo>
                  <a:pt x="4349" y="6134"/>
                  <a:pt x="4298" y="6141"/>
                  <a:pt x="4160" y="6125"/>
                </a:cubicBezTo>
                <a:cubicBezTo>
                  <a:pt x="4238" y="6083"/>
                  <a:pt x="4553" y="5917"/>
                  <a:pt x="4735" y="5865"/>
                </a:cubicBezTo>
                <a:cubicBezTo>
                  <a:pt x="9303" y="4562"/>
                  <a:pt x="14264" y="5355"/>
                  <a:pt x="18849" y="608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5"/>
          <p:cNvSpPr/>
          <p:nvPr/>
        </p:nvSpPr>
        <p:spPr>
          <a:xfrm>
            <a:off x="282600" y="1598760"/>
            <a:ext cx="7994520" cy="1420560"/>
          </a:xfrm>
          <a:custGeom>
            <a:avLst/>
            <a:gdLst/>
            <a:ahLst/>
            <a:rect l="l" t="t" r="r" b="b"/>
            <a:pathLst>
              <a:path w="22207" h="3948">
                <a:moveTo>
                  <a:pt x="22993" y="5967"/>
                </a:moveTo>
                <a:cubicBezTo>
                  <a:pt x="19633" y="4821"/>
                  <a:pt x="15987" y="4654"/>
                  <a:pt x="12463" y="4783"/>
                </a:cubicBezTo>
                <a:cubicBezTo>
                  <a:pt x="12083" y="4799"/>
                  <a:pt x="11979" y="4802"/>
                  <a:pt x="11738" y="4822"/>
                </a:cubicBezTo>
                <a:cubicBezTo>
                  <a:pt x="11600" y="4862"/>
                  <a:pt x="11321" y="4859"/>
                  <a:pt x="11465" y="4865"/>
                </a:cubicBezTo>
                <a:cubicBezTo>
                  <a:pt x="14521" y="4993"/>
                  <a:pt x="17505" y="4769"/>
                  <a:pt x="20536" y="5380"/>
                </a:cubicBezTo>
                <a:cubicBezTo>
                  <a:pt x="20399" y="5384"/>
                  <a:pt x="20218" y="5406"/>
                  <a:pt x="20067" y="5404"/>
                </a:cubicBezTo>
                <a:cubicBezTo>
                  <a:pt x="18678" y="5388"/>
                  <a:pt x="16848" y="5540"/>
                  <a:pt x="15530" y="5042"/>
                </a:cubicBezTo>
                <a:cubicBezTo>
                  <a:pt x="15439" y="4993"/>
                  <a:pt x="15412" y="4990"/>
                  <a:pt x="15389" y="4927"/>
                </a:cubicBezTo>
                <a:cubicBezTo>
                  <a:pt x="15563" y="4861"/>
                  <a:pt x="15724" y="4719"/>
                  <a:pt x="15947" y="4667"/>
                </a:cubicBezTo>
                <a:cubicBezTo>
                  <a:pt x="17517" y="4300"/>
                  <a:pt x="19502" y="4262"/>
                  <a:pt x="21056" y="4721"/>
                </a:cubicBezTo>
                <a:cubicBezTo>
                  <a:pt x="21159" y="4751"/>
                  <a:pt x="21890" y="4958"/>
                  <a:pt x="21757" y="5204"/>
                </a:cubicBezTo>
                <a:cubicBezTo>
                  <a:pt x="21621" y="5455"/>
                  <a:pt x="21175" y="5471"/>
                  <a:pt x="20943" y="5532"/>
                </a:cubicBezTo>
                <a:cubicBezTo>
                  <a:pt x="18958" y="6053"/>
                  <a:pt x="16734" y="6057"/>
                  <a:pt x="14704" y="6368"/>
                </a:cubicBezTo>
                <a:cubicBezTo>
                  <a:pt x="12944" y="6638"/>
                  <a:pt x="10590" y="7409"/>
                  <a:pt x="8805" y="6986"/>
                </a:cubicBezTo>
                <a:cubicBezTo>
                  <a:pt x="8499" y="6913"/>
                  <a:pt x="8571" y="6732"/>
                  <a:pt x="8408" y="6642"/>
                </a:cubicBezTo>
                <a:cubicBezTo>
                  <a:pt x="8793" y="6172"/>
                  <a:pt x="9090" y="5868"/>
                  <a:pt x="9668" y="5572"/>
                </a:cubicBezTo>
                <a:cubicBezTo>
                  <a:pt x="11376" y="4698"/>
                  <a:pt x="13877" y="4148"/>
                  <a:pt x="15768" y="4707"/>
                </a:cubicBezTo>
                <a:cubicBezTo>
                  <a:pt x="15980" y="4770"/>
                  <a:pt x="16066" y="4903"/>
                  <a:pt x="16235" y="4980"/>
                </a:cubicBezTo>
                <a:cubicBezTo>
                  <a:pt x="16047" y="5125"/>
                  <a:pt x="16018" y="5277"/>
                  <a:pt x="15696" y="5383"/>
                </a:cubicBezTo>
                <a:cubicBezTo>
                  <a:pt x="14182" y="5882"/>
                  <a:pt x="12469" y="5940"/>
                  <a:pt x="10900" y="6162"/>
                </a:cubicBezTo>
                <a:cubicBezTo>
                  <a:pt x="9133" y="6412"/>
                  <a:pt x="6761" y="7275"/>
                  <a:pt x="4976" y="7039"/>
                </a:cubicBezTo>
                <a:cubicBezTo>
                  <a:pt x="4885" y="7027"/>
                  <a:pt x="4998" y="6937"/>
                  <a:pt x="4907" y="6927"/>
                </a:cubicBezTo>
                <a:cubicBezTo>
                  <a:pt x="5549" y="6697"/>
                  <a:pt x="6183" y="6517"/>
                  <a:pt x="6854" y="6382"/>
                </a:cubicBezTo>
                <a:cubicBezTo>
                  <a:pt x="10519" y="5642"/>
                  <a:pt x="14832" y="5353"/>
                  <a:pt x="18509" y="6223"/>
                </a:cubicBezTo>
                <a:cubicBezTo>
                  <a:pt x="18632" y="6252"/>
                  <a:pt x="18771" y="6325"/>
                  <a:pt x="18884" y="6356"/>
                </a:cubicBezTo>
                <a:cubicBezTo>
                  <a:pt x="18607" y="6364"/>
                  <a:pt x="18323" y="6383"/>
                  <a:pt x="18038" y="6377"/>
                </a:cubicBezTo>
                <a:cubicBezTo>
                  <a:pt x="14230" y="6292"/>
                  <a:pt x="10511" y="6207"/>
                  <a:pt x="6710" y="6626"/>
                </a:cubicBezTo>
                <a:cubicBezTo>
                  <a:pt x="5538" y="6755"/>
                  <a:pt x="4122" y="7163"/>
                  <a:pt x="2937" y="7011"/>
                </a:cubicBezTo>
                <a:cubicBezTo>
                  <a:pt x="2882" y="6985"/>
                  <a:pt x="2863" y="6977"/>
                  <a:pt x="2918" y="6939"/>
                </a:cubicBezTo>
                <a:cubicBezTo>
                  <a:pt x="3773" y="6649"/>
                  <a:pt x="4633" y="6419"/>
                  <a:pt x="5524" y="6250"/>
                </a:cubicBezTo>
                <a:cubicBezTo>
                  <a:pt x="7629" y="5852"/>
                  <a:pt x="9859" y="5511"/>
                  <a:pt x="12005" y="5689"/>
                </a:cubicBezTo>
                <a:cubicBezTo>
                  <a:pt x="12012" y="5696"/>
                  <a:pt x="12018" y="5704"/>
                  <a:pt x="12025" y="5711"/>
                </a:cubicBezTo>
                <a:cubicBezTo>
                  <a:pt x="11604" y="5767"/>
                  <a:pt x="11182" y="5821"/>
                  <a:pt x="10756" y="5857"/>
                </a:cubicBezTo>
                <a:cubicBezTo>
                  <a:pt x="7813" y="6106"/>
                  <a:pt x="4915" y="6586"/>
                  <a:pt x="1986" y="6922"/>
                </a:cubicBezTo>
                <a:cubicBezTo>
                  <a:pt x="1733" y="6951"/>
                  <a:pt x="1596" y="6914"/>
                  <a:pt x="1342" y="6907"/>
                </a:cubicBezTo>
                <a:cubicBezTo>
                  <a:pt x="2410" y="6547"/>
                  <a:pt x="3505" y="6333"/>
                  <a:pt x="4618" y="6148"/>
                </a:cubicBezTo>
                <a:cubicBezTo>
                  <a:pt x="6447" y="5844"/>
                  <a:pt x="8286" y="5667"/>
                  <a:pt x="10134" y="5533"/>
                </a:cubicBezTo>
                <a:cubicBezTo>
                  <a:pt x="9798" y="5546"/>
                  <a:pt x="9460" y="5555"/>
                  <a:pt x="9124" y="5572"/>
                </a:cubicBezTo>
                <a:cubicBezTo>
                  <a:pt x="6506" y="5707"/>
                  <a:pt x="3824" y="5813"/>
                  <a:pt x="1234" y="6247"/>
                </a:cubicBezTo>
                <a:cubicBezTo>
                  <a:pt x="1220" y="6253"/>
                  <a:pt x="1205" y="6258"/>
                  <a:pt x="1191" y="6264"/>
                </a:cubicBezTo>
                <a:cubicBezTo>
                  <a:pt x="1903" y="6207"/>
                  <a:pt x="2613" y="6135"/>
                  <a:pt x="3323" y="6056"/>
                </a:cubicBezTo>
                <a:cubicBezTo>
                  <a:pt x="5691" y="5793"/>
                  <a:pt x="11049" y="7666"/>
                  <a:pt x="10436" y="5364"/>
                </a:cubicBezTo>
                <a:cubicBezTo>
                  <a:pt x="10415" y="5284"/>
                  <a:pt x="10004" y="5314"/>
                  <a:pt x="9951" y="5302"/>
                </a:cubicBezTo>
                <a:cubicBezTo>
                  <a:pt x="7186" y="5309"/>
                  <a:pt x="3788" y="5440"/>
                  <a:pt x="1245" y="6693"/>
                </a:cubicBezTo>
                <a:cubicBezTo>
                  <a:pt x="1030" y="6799"/>
                  <a:pt x="920" y="6955"/>
                  <a:pt x="792" y="7061"/>
                </a:cubicBezTo>
                <a:cubicBezTo>
                  <a:pt x="1603" y="7159"/>
                  <a:pt x="2371" y="7088"/>
                  <a:pt x="3196" y="7005"/>
                </a:cubicBezTo>
                <a:cubicBezTo>
                  <a:pt x="6955" y="6626"/>
                  <a:pt x="10820" y="6382"/>
                  <a:pt x="14527" y="7285"/>
                </a:cubicBezTo>
                <a:cubicBezTo>
                  <a:pt x="14603" y="7307"/>
                  <a:pt x="14679" y="7329"/>
                  <a:pt x="14755" y="7351"/>
                </a:cubicBezTo>
                <a:cubicBezTo>
                  <a:pt x="14649" y="7389"/>
                  <a:pt x="15013" y="7482"/>
                  <a:pt x="14901" y="7468"/>
                </a:cubicBezTo>
                <a:cubicBezTo>
                  <a:pt x="13008" y="7231"/>
                  <a:pt x="11202" y="6790"/>
                  <a:pt x="9274" y="6775"/>
                </a:cubicBezTo>
                <a:cubicBezTo>
                  <a:pt x="7363" y="6760"/>
                  <a:pt x="5013" y="6866"/>
                  <a:pt x="3237" y="7681"/>
                </a:cubicBezTo>
                <a:cubicBezTo>
                  <a:pt x="3135" y="7745"/>
                  <a:pt x="3110" y="7749"/>
                  <a:pt x="3072" y="7811"/>
                </a:cubicBezTo>
                <a:cubicBezTo>
                  <a:pt x="3337" y="7807"/>
                  <a:pt x="3615" y="7823"/>
                  <a:pt x="3897" y="7795"/>
                </a:cubicBezTo>
                <a:cubicBezTo>
                  <a:pt x="8425" y="7347"/>
                  <a:pt x="12956" y="6230"/>
                  <a:pt x="17530" y="6941"/>
                </a:cubicBezTo>
                <a:cubicBezTo>
                  <a:pt x="17816" y="6985"/>
                  <a:pt x="18094" y="7048"/>
                  <a:pt x="18378" y="7101"/>
                </a:cubicBezTo>
                <a:cubicBezTo>
                  <a:pt x="18194" y="7095"/>
                  <a:pt x="18160" y="7125"/>
                  <a:pt x="17977" y="7108"/>
                </a:cubicBezTo>
                <a:cubicBezTo>
                  <a:pt x="13106" y="6656"/>
                  <a:pt x="-992" y="9612"/>
                  <a:pt x="3423" y="7504"/>
                </a:cubicBezTo>
                <a:cubicBezTo>
                  <a:pt x="3623" y="7408"/>
                  <a:pt x="3893" y="7386"/>
                  <a:pt x="4102" y="7329"/>
                </a:cubicBezTo>
                <a:cubicBezTo>
                  <a:pt x="8873" y="6313"/>
                  <a:pt x="14638" y="5705"/>
                  <a:pt x="19288" y="7582"/>
                </a:cubicBezTo>
                <a:cubicBezTo>
                  <a:pt x="19479" y="7659"/>
                  <a:pt x="19537" y="7758"/>
                  <a:pt x="19674" y="7829"/>
                </a:cubicBezTo>
                <a:cubicBezTo>
                  <a:pt x="19318" y="7818"/>
                  <a:pt x="18966" y="7811"/>
                  <a:pt x="18601" y="7771"/>
                </a:cubicBezTo>
                <a:cubicBezTo>
                  <a:pt x="14000" y="7261"/>
                  <a:pt x="9578" y="7363"/>
                  <a:pt x="5020" y="8220"/>
                </a:cubicBezTo>
                <a:cubicBezTo>
                  <a:pt x="5019" y="8220"/>
                  <a:pt x="4039" y="8388"/>
                  <a:pt x="4041" y="8378"/>
                </a:cubicBezTo>
                <a:cubicBezTo>
                  <a:pt x="4077" y="8229"/>
                  <a:pt x="4741" y="8034"/>
                  <a:pt x="4841" y="7985"/>
                </a:cubicBezTo>
                <a:cubicBezTo>
                  <a:pt x="4976" y="7922"/>
                  <a:pt x="5112" y="7859"/>
                  <a:pt x="5247" y="77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6"/>
          <p:cNvSpPr/>
          <p:nvPr/>
        </p:nvSpPr>
        <p:spPr>
          <a:xfrm>
            <a:off x="411120" y="2363760"/>
            <a:ext cx="8007480" cy="1692360"/>
          </a:xfrm>
          <a:custGeom>
            <a:avLst/>
            <a:gdLst/>
            <a:ahLst/>
            <a:rect l="l" t="t" r="r" b="b"/>
            <a:pathLst>
              <a:path w="22245" h="4701">
                <a:moveTo>
                  <a:pt x="3211" y="8258"/>
                </a:moveTo>
                <a:cubicBezTo>
                  <a:pt x="3121" y="8289"/>
                  <a:pt x="3066" y="8085"/>
                  <a:pt x="3035" y="8175"/>
                </a:cubicBezTo>
                <a:cubicBezTo>
                  <a:pt x="2993" y="8299"/>
                  <a:pt x="2801" y="8398"/>
                  <a:pt x="3073" y="8423"/>
                </a:cubicBezTo>
                <a:cubicBezTo>
                  <a:pt x="3347" y="8449"/>
                  <a:pt x="3657" y="8303"/>
                  <a:pt x="3869" y="8188"/>
                </a:cubicBezTo>
                <a:cubicBezTo>
                  <a:pt x="3841" y="8167"/>
                  <a:pt x="3829" y="8160"/>
                  <a:pt x="3803" y="8159"/>
                </a:cubicBezTo>
                <a:cubicBezTo>
                  <a:pt x="2889" y="8180"/>
                  <a:pt x="317" y="9033"/>
                  <a:pt x="1151" y="8659"/>
                </a:cubicBezTo>
                <a:cubicBezTo>
                  <a:pt x="2375" y="8110"/>
                  <a:pt x="3946" y="7790"/>
                  <a:pt x="5279" y="7786"/>
                </a:cubicBezTo>
                <a:cubicBezTo>
                  <a:pt x="5280" y="7790"/>
                  <a:pt x="5282" y="7793"/>
                  <a:pt x="5283" y="7797"/>
                </a:cubicBezTo>
                <a:cubicBezTo>
                  <a:pt x="4953" y="7874"/>
                  <a:pt x="4619" y="7948"/>
                  <a:pt x="4287" y="8023"/>
                </a:cubicBezTo>
                <a:cubicBezTo>
                  <a:pt x="3299" y="8246"/>
                  <a:pt x="2312" y="8498"/>
                  <a:pt x="1328" y="8726"/>
                </a:cubicBezTo>
                <a:cubicBezTo>
                  <a:pt x="1793" y="8701"/>
                  <a:pt x="2258" y="8674"/>
                  <a:pt x="2723" y="8635"/>
                </a:cubicBezTo>
                <a:cubicBezTo>
                  <a:pt x="4827" y="8460"/>
                  <a:pt x="6992" y="8262"/>
                  <a:pt x="9071" y="7890"/>
                </a:cubicBezTo>
                <a:cubicBezTo>
                  <a:pt x="9560" y="7802"/>
                  <a:pt x="9999" y="7652"/>
                  <a:pt x="10456" y="7489"/>
                </a:cubicBezTo>
                <a:cubicBezTo>
                  <a:pt x="10346" y="7506"/>
                  <a:pt x="10168" y="7513"/>
                  <a:pt x="10040" y="7539"/>
                </a:cubicBezTo>
                <a:cubicBezTo>
                  <a:pt x="7877" y="7984"/>
                  <a:pt x="5701" y="9107"/>
                  <a:pt x="3511" y="9305"/>
                </a:cubicBezTo>
                <a:cubicBezTo>
                  <a:pt x="3433" y="9312"/>
                  <a:pt x="3423" y="9263"/>
                  <a:pt x="3345" y="9268"/>
                </a:cubicBezTo>
                <a:cubicBezTo>
                  <a:pt x="3367" y="9257"/>
                  <a:pt x="3389" y="9247"/>
                  <a:pt x="3411" y="9236"/>
                </a:cubicBezTo>
                <a:cubicBezTo>
                  <a:pt x="4896" y="8759"/>
                  <a:pt x="6413" y="8395"/>
                  <a:pt x="7961" y="8192"/>
                </a:cubicBezTo>
                <a:cubicBezTo>
                  <a:pt x="9547" y="7984"/>
                  <a:pt x="11154" y="7880"/>
                  <a:pt x="12748" y="7747"/>
                </a:cubicBezTo>
                <a:cubicBezTo>
                  <a:pt x="11040" y="7975"/>
                  <a:pt x="9359" y="8301"/>
                  <a:pt x="7670" y="8637"/>
                </a:cubicBezTo>
                <a:cubicBezTo>
                  <a:pt x="7490" y="8636"/>
                  <a:pt x="6993" y="8776"/>
                  <a:pt x="7139" y="8671"/>
                </a:cubicBezTo>
                <a:cubicBezTo>
                  <a:pt x="7246" y="8594"/>
                  <a:pt x="7310" y="8563"/>
                  <a:pt x="7469" y="8527"/>
                </a:cubicBezTo>
                <a:cubicBezTo>
                  <a:pt x="8801" y="8223"/>
                  <a:pt x="10374" y="8329"/>
                  <a:pt x="11739" y="8163"/>
                </a:cubicBezTo>
                <a:cubicBezTo>
                  <a:pt x="13394" y="7962"/>
                  <a:pt x="15046" y="7830"/>
                  <a:pt x="16709" y="7742"/>
                </a:cubicBezTo>
                <a:cubicBezTo>
                  <a:pt x="15799" y="7717"/>
                  <a:pt x="14894" y="7720"/>
                  <a:pt x="13983" y="7769"/>
                </a:cubicBezTo>
                <a:cubicBezTo>
                  <a:pt x="11603" y="7897"/>
                  <a:pt x="9230" y="8239"/>
                  <a:pt x="6945" y="8918"/>
                </a:cubicBezTo>
                <a:cubicBezTo>
                  <a:pt x="7064" y="8916"/>
                  <a:pt x="7029" y="8993"/>
                  <a:pt x="7148" y="8981"/>
                </a:cubicBezTo>
                <a:cubicBezTo>
                  <a:pt x="9231" y="8768"/>
                  <a:pt x="11271" y="8168"/>
                  <a:pt x="13358" y="7925"/>
                </a:cubicBezTo>
                <a:cubicBezTo>
                  <a:pt x="15291" y="7700"/>
                  <a:pt x="17533" y="7896"/>
                  <a:pt x="19307" y="7773"/>
                </a:cubicBezTo>
                <a:cubicBezTo>
                  <a:pt x="19172" y="7757"/>
                  <a:pt x="19111" y="7751"/>
                  <a:pt x="19013" y="7743"/>
                </a:cubicBezTo>
                <a:cubicBezTo>
                  <a:pt x="16266" y="7568"/>
                  <a:pt x="13662" y="8064"/>
                  <a:pt x="10983" y="8613"/>
                </a:cubicBezTo>
                <a:cubicBezTo>
                  <a:pt x="10849" y="8616"/>
                  <a:pt x="10517" y="8694"/>
                  <a:pt x="10648" y="8665"/>
                </a:cubicBezTo>
                <a:cubicBezTo>
                  <a:pt x="13836" y="7947"/>
                  <a:pt x="17428" y="7511"/>
                  <a:pt x="20649" y="8235"/>
                </a:cubicBezTo>
                <a:cubicBezTo>
                  <a:pt x="20790" y="8267"/>
                  <a:pt x="20456" y="8189"/>
                  <a:pt x="20593" y="8236"/>
                </a:cubicBezTo>
                <a:cubicBezTo>
                  <a:pt x="17711" y="7677"/>
                  <a:pt x="14923" y="7937"/>
                  <a:pt x="12079" y="8578"/>
                </a:cubicBezTo>
                <a:cubicBezTo>
                  <a:pt x="12229" y="8578"/>
                  <a:pt x="12391" y="8593"/>
                  <a:pt x="12546" y="8589"/>
                </a:cubicBezTo>
                <a:cubicBezTo>
                  <a:pt x="15250" y="8514"/>
                  <a:pt x="18046" y="8463"/>
                  <a:pt x="20734" y="8162"/>
                </a:cubicBezTo>
                <a:cubicBezTo>
                  <a:pt x="21357" y="8092"/>
                  <a:pt x="21254" y="7994"/>
                  <a:pt x="21468" y="7585"/>
                </a:cubicBezTo>
                <a:cubicBezTo>
                  <a:pt x="21037" y="7012"/>
                  <a:pt x="20790" y="6846"/>
                  <a:pt x="19978" y="6908"/>
                </a:cubicBezTo>
                <a:cubicBezTo>
                  <a:pt x="19607" y="6936"/>
                  <a:pt x="16783" y="7391"/>
                  <a:pt x="16721" y="7823"/>
                </a:cubicBezTo>
                <a:cubicBezTo>
                  <a:pt x="16703" y="7945"/>
                  <a:pt x="16739" y="7856"/>
                  <a:pt x="16907" y="7899"/>
                </a:cubicBezTo>
                <a:cubicBezTo>
                  <a:pt x="17978" y="8172"/>
                  <a:pt x="19453" y="7779"/>
                  <a:pt x="20573" y="7797"/>
                </a:cubicBezTo>
                <a:cubicBezTo>
                  <a:pt x="20485" y="7820"/>
                  <a:pt x="20472" y="7868"/>
                  <a:pt x="20382" y="7885"/>
                </a:cubicBezTo>
                <a:cubicBezTo>
                  <a:pt x="20082" y="7942"/>
                  <a:pt x="17643" y="8324"/>
                  <a:pt x="17558" y="8030"/>
                </a:cubicBezTo>
                <a:cubicBezTo>
                  <a:pt x="17504" y="7844"/>
                  <a:pt x="17565" y="7923"/>
                  <a:pt x="17709" y="7748"/>
                </a:cubicBezTo>
                <a:cubicBezTo>
                  <a:pt x="18326" y="6996"/>
                  <a:pt x="20887" y="6672"/>
                  <a:pt x="21785" y="6869"/>
                </a:cubicBezTo>
                <a:cubicBezTo>
                  <a:pt x="21826" y="6878"/>
                  <a:pt x="22163" y="6910"/>
                  <a:pt x="22118" y="7028"/>
                </a:cubicBezTo>
                <a:cubicBezTo>
                  <a:pt x="22071" y="7149"/>
                  <a:pt x="21721" y="7131"/>
                  <a:pt x="21631" y="7145"/>
                </a:cubicBezTo>
                <a:cubicBezTo>
                  <a:pt x="21273" y="7199"/>
                  <a:pt x="20235" y="7268"/>
                  <a:pt x="20584" y="7175"/>
                </a:cubicBezTo>
                <a:cubicBezTo>
                  <a:pt x="21047" y="7052"/>
                  <a:pt x="21635" y="7188"/>
                  <a:pt x="22105" y="7221"/>
                </a:cubicBezTo>
                <a:cubicBezTo>
                  <a:pt x="22028" y="7236"/>
                  <a:pt x="22011" y="7262"/>
                  <a:pt x="21933" y="7274"/>
                </a:cubicBezTo>
                <a:cubicBezTo>
                  <a:pt x="21615" y="7324"/>
                  <a:pt x="21296" y="7360"/>
                  <a:pt x="20977" y="7400"/>
                </a:cubicBezTo>
                <a:cubicBezTo>
                  <a:pt x="21039" y="7377"/>
                  <a:pt x="20987" y="7337"/>
                  <a:pt x="21050" y="7319"/>
                </a:cubicBezTo>
                <a:cubicBezTo>
                  <a:pt x="21815" y="7099"/>
                  <a:pt x="24132" y="7222"/>
                  <a:pt x="23352" y="7059"/>
                </a:cubicBezTo>
                <a:cubicBezTo>
                  <a:pt x="22717" y="6926"/>
                  <a:pt x="21951" y="7041"/>
                  <a:pt x="21298" y="7003"/>
                </a:cubicBezTo>
                <a:cubicBezTo>
                  <a:pt x="21367" y="6988"/>
                  <a:pt x="21264" y="6935"/>
                  <a:pt x="21334" y="6926"/>
                </a:cubicBezTo>
                <a:cubicBezTo>
                  <a:pt x="21741" y="6875"/>
                  <a:pt x="22872" y="6812"/>
                  <a:pt x="22492" y="6967"/>
                </a:cubicBezTo>
                <a:cubicBezTo>
                  <a:pt x="22058" y="7144"/>
                  <a:pt x="21025" y="7228"/>
                  <a:pt x="20600" y="7199"/>
                </a:cubicBezTo>
                <a:cubicBezTo>
                  <a:pt x="20527" y="7194"/>
                  <a:pt x="20781" y="7136"/>
                  <a:pt x="20708" y="7131"/>
                </a:cubicBezTo>
                <a:cubicBezTo>
                  <a:pt x="20078" y="7088"/>
                  <a:pt x="19259" y="7178"/>
                  <a:pt x="18722" y="7084"/>
                </a:cubicBezTo>
                <a:cubicBezTo>
                  <a:pt x="18799" y="7071"/>
                  <a:pt x="18834" y="7066"/>
                  <a:pt x="18891" y="7063"/>
                </a:cubicBezTo>
                <a:cubicBezTo>
                  <a:pt x="19133" y="7058"/>
                  <a:pt x="21530" y="6974"/>
                  <a:pt x="21551" y="7152"/>
                </a:cubicBezTo>
                <a:cubicBezTo>
                  <a:pt x="21561" y="7235"/>
                  <a:pt x="21367" y="7284"/>
                  <a:pt x="21320" y="7314"/>
                </a:cubicBezTo>
                <a:cubicBezTo>
                  <a:pt x="20817" y="7636"/>
                  <a:pt x="19165" y="8184"/>
                  <a:pt x="19697" y="7911"/>
                </a:cubicBezTo>
                <a:cubicBezTo>
                  <a:pt x="19946" y="7783"/>
                  <a:pt x="20219" y="7719"/>
                  <a:pt x="20481" y="7623"/>
                </a:cubicBezTo>
                <a:cubicBezTo>
                  <a:pt x="21347" y="7400"/>
                  <a:pt x="23406" y="7972"/>
                  <a:pt x="23110" y="7128"/>
                </a:cubicBezTo>
                <a:cubicBezTo>
                  <a:pt x="23102" y="7106"/>
                  <a:pt x="22348" y="7171"/>
                  <a:pt x="22300" y="7174"/>
                </a:cubicBezTo>
                <a:cubicBezTo>
                  <a:pt x="21908" y="7190"/>
                  <a:pt x="20816" y="7056"/>
                  <a:pt x="21180" y="7201"/>
                </a:cubicBezTo>
                <a:cubicBezTo>
                  <a:pt x="21720" y="7416"/>
                  <a:pt x="22582" y="7366"/>
                  <a:pt x="23178" y="7495"/>
                </a:cubicBezTo>
                <a:cubicBezTo>
                  <a:pt x="23105" y="7504"/>
                  <a:pt x="23124" y="7542"/>
                  <a:pt x="23050" y="7547"/>
                </a:cubicBezTo>
                <a:cubicBezTo>
                  <a:pt x="22947" y="7554"/>
                  <a:pt x="21773" y="7616"/>
                  <a:pt x="21771" y="7557"/>
                </a:cubicBezTo>
                <a:cubicBezTo>
                  <a:pt x="21767" y="7470"/>
                  <a:pt x="21876" y="7477"/>
                  <a:pt x="21914" y="7412"/>
                </a:cubicBezTo>
                <a:cubicBezTo>
                  <a:pt x="21956" y="7341"/>
                  <a:pt x="22432" y="7204"/>
                  <a:pt x="22341" y="7118"/>
                </a:cubicBezTo>
                <a:cubicBezTo>
                  <a:pt x="22141" y="6928"/>
                  <a:pt x="21104" y="7222"/>
                  <a:pt x="20921" y="7250"/>
                </a:cubicBezTo>
                <a:cubicBezTo>
                  <a:pt x="20984" y="7239"/>
                  <a:pt x="21014" y="7234"/>
                  <a:pt x="21061" y="7230"/>
                </a:cubicBezTo>
                <a:cubicBezTo>
                  <a:pt x="21529" y="7213"/>
                  <a:pt x="22814" y="7142"/>
                  <a:pt x="22357" y="7241"/>
                </a:cubicBezTo>
                <a:cubicBezTo>
                  <a:pt x="21078" y="7518"/>
                  <a:pt x="15987" y="8707"/>
                  <a:pt x="14950" y="8092"/>
                </a:cubicBezTo>
                <a:cubicBezTo>
                  <a:pt x="14738" y="7966"/>
                  <a:pt x="14934" y="8032"/>
                  <a:pt x="14866" y="7898"/>
                </a:cubicBezTo>
                <a:cubicBezTo>
                  <a:pt x="14827" y="7822"/>
                  <a:pt x="15128" y="7711"/>
                  <a:pt x="14967" y="7635"/>
                </a:cubicBezTo>
                <a:cubicBezTo>
                  <a:pt x="14596" y="7459"/>
                  <a:pt x="13561" y="7930"/>
                  <a:pt x="13218" y="8026"/>
                </a:cubicBezTo>
                <a:cubicBezTo>
                  <a:pt x="11519" y="8502"/>
                  <a:pt x="9955" y="8896"/>
                  <a:pt x="8184" y="8759"/>
                </a:cubicBezTo>
                <a:cubicBezTo>
                  <a:pt x="7361" y="8695"/>
                  <a:pt x="6655" y="8700"/>
                  <a:pt x="5848" y="8909"/>
                </a:cubicBezTo>
                <a:cubicBezTo>
                  <a:pt x="5332" y="9043"/>
                  <a:pt x="4481" y="9479"/>
                  <a:pt x="3937" y="9263"/>
                </a:cubicBezTo>
                <a:cubicBezTo>
                  <a:pt x="3524" y="9100"/>
                  <a:pt x="3614" y="8735"/>
                  <a:pt x="3746" y="8393"/>
                </a:cubicBezTo>
                <a:cubicBezTo>
                  <a:pt x="3793" y="8272"/>
                  <a:pt x="4480" y="7435"/>
                  <a:pt x="4375" y="7365"/>
                </a:cubicBezTo>
                <a:cubicBezTo>
                  <a:pt x="4224" y="7264"/>
                  <a:pt x="3754" y="7539"/>
                  <a:pt x="3625" y="7593"/>
                </a:cubicBezTo>
                <a:cubicBezTo>
                  <a:pt x="3289" y="7733"/>
                  <a:pt x="2969" y="7919"/>
                  <a:pt x="2645" y="8086"/>
                </a:cubicBezTo>
                <a:cubicBezTo>
                  <a:pt x="2674" y="8047"/>
                  <a:pt x="2559" y="8079"/>
                  <a:pt x="2591" y="8042"/>
                </a:cubicBezTo>
                <a:cubicBezTo>
                  <a:pt x="2737" y="7873"/>
                  <a:pt x="3977" y="6583"/>
                  <a:pt x="3915" y="6570"/>
                </a:cubicBezTo>
                <a:cubicBezTo>
                  <a:pt x="3678" y="6520"/>
                  <a:pt x="3343" y="6799"/>
                  <a:pt x="3159" y="6908"/>
                </a:cubicBezTo>
                <a:cubicBezTo>
                  <a:pt x="2925" y="7047"/>
                  <a:pt x="2711" y="7219"/>
                  <a:pt x="2487" y="7374"/>
                </a:cubicBezTo>
                <a:cubicBezTo>
                  <a:pt x="2270" y="7540"/>
                  <a:pt x="2054" y="7708"/>
                  <a:pt x="1838" y="7875"/>
                </a:cubicBezTo>
                <a:cubicBezTo>
                  <a:pt x="2542" y="7461"/>
                  <a:pt x="3255" y="7041"/>
                  <a:pt x="3984" y="6693"/>
                </a:cubicBezTo>
                <a:cubicBezTo>
                  <a:pt x="3891" y="6786"/>
                  <a:pt x="3796" y="6907"/>
                  <a:pt x="3692" y="7002"/>
                </a:cubicBezTo>
                <a:cubicBezTo>
                  <a:pt x="3285" y="7376"/>
                  <a:pt x="2084" y="8453"/>
                  <a:pt x="2358" y="7973"/>
                </a:cubicBezTo>
                <a:cubicBezTo>
                  <a:pt x="2418" y="7868"/>
                  <a:pt x="2550" y="7791"/>
                  <a:pt x="2646" y="7724"/>
                </a:cubicBezTo>
                <a:cubicBezTo>
                  <a:pt x="2727" y="7667"/>
                  <a:pt x="3552" y="7154"/>
                  <a:pt x="3609" y="7375"/>
                </a:cubicBezTo>
                <a:cubicBezTo>
                  <a:pt x="3668" y="7604"/>
                  <a:pt x="3350" y="7882"/>
                  <a:pt x="3233" y="8039"/>
                </a:cubicBezTo>
                <a:cubicBezTo>
                  <a:pt x="3138" y="8166"/>
                  <a:pt x="1771" y="9637"/>
                  <a:pt x="1906" y="9732"/>
                </a:cubicBezTo>
                <a:cubicBezTo>
                  <a:pt x="2011" y="9805"/>
                  <a:pt x="2279" y="9624"/>
                  <a:pt x="2368" y="9595"/>
                </a:cubicBezTo>
                <a:cubicBezTo>
                  <a:pt x="3038" y="9376"/>
                  <a:pt x="3681" y="8957"/>
                  <a:pt x="4313" y="8647"/>
                </a:cubicBezTo>
                <a:cubicBezTo>
                  <a:pt x="4219" y="8741"/>
                  <a:pt x="4112" y="8870"/>
                  <a:pt x="4007" y="8967"/>
                </a:cubicBezTo>
                <a:cubicBezTo>
                  <a:pt x="3832" y="9130"/>
                  <a:pt x="1779" y="10815"/>
                  <a:pt x="1763" y="10770"/>
                </a:cubicBezTo>
                <a:cubicBezTo>
                  <a:pt x="1711" y="10625"/>
                  <a:pt x="1897" y="10443"/>
                  <a:pt x="1969" y="10333"/>
                </a:cubicBezTo>
                <a:cubicBezTo>
                  <a:pt x="2450" y="9598"/>
                  <a:pt x="3212" y="8989"/>
                  <a:pt x="3867" y="8449"/>
                </a:cubicBezTo>
                <a:cubicBezTo>
                  <a:pt x="3745" y="8646"/>
                  <a:pt x="3632" y="8848"/>
                  <a:pt x="3494" y="9040"/>
                </a:cubicBezTo>
                <a:cubicBezTo>
                  <a:pt x="3100" y="9591"/>
                  <a:pt x="2649" y="10104"/>
                  <a:pt x="2312" y="10690"/>
                </a:cubicBezTo>
                <a:cubicBezTo>
                  <a:pt x="2316" y="10695"/>
                  <a:pt x="2321" y="10701"/>
                  <a:pt x="2325" y="10706"/>
                </a:cubicBezTo>
                <a:cubicBezTo>
                  <a:pt x="2634" y="10453"/>
                  <a:pt x="2932" y="10188"/>
                  <a:pt x="3230" y="9918"/>
                </a:cubicBezTo>
                <a:cubicBezTo>
                  <a:pt x="3284" y="9869"/>
                  <a:pt x="4188" y="9057"/>
                  <a:pt x="4241" y="9174"/>
                </a:cubicBezTo>
                <a:cubicBezTo>
                  <a:pt x="4306" y="9318"/>
                  <a:pt x="4086" y="9546"/>
                  <a:pt x="4025" y="9650"/>
                </a:cubicBezTo>
                <a:cubicBezTo>
                  <a:pt x="3693" y="10212"/>
                  <a:pt x="3164" y="10686"/>
                  <a:pt x="2717" y="11155"/>
                </a:cubicBezTo>
                <a:cubicBezTo>
                  <a:pt x="2792" y="11055"/>
                  <a:pt x="2631" y="11205"/>
                  <a:pt x="2711" y="11110"/>
                </a:cubicBezTo>
                <a:cubicBezTo>
                  <a:pt x="3329" y="10380"/>
                  <a:pt x="5502" y="9171"/>
                  <a:pt x="4575" y="8937"/>
                </a:cubicBezTo>
                <a:cubicBezTo>
                  <a:pt x="4461" y="8908"/>
                  <a:pt x="4345" y="9044"/>
                  <a:pt x="4252" y="9093"/>
                </a:cubicBezTo>
                <a:cubicBezTo>
                  <a:pt x="4055" y="9197"/>
                  <a:pt x="2858" y="10337"/>
                  <a:pt x="2753" y="10268"/>
                </a:cubicBezTo>
                <a:cubicBezTo>
                  <a:pt x="2647" y="10198"/>
                  <a:pt x="2951" y="10103"/>
                  <a:pt x="3024" y="9999"/>
                </a:cubicBezTo>
                <a:cubicBezTo>
                  <a:pt x="3186" y="9862"/>
                  <a:pt x="5040" y="8352"/>
                  <a:pt x="5154" y="8558"/>
                </a:cubicBezTo>
                <a:cubicBezTo>
                  <a:pt x="5216" y="8670"/>
                  <a:pt x="4927" y="8950"/>
                  <a:pt x="4882" y="9017"/>
                </a:cubicBezTo>
                <a:cubicBezTo>
                  <a:pt x="4429" y="9690"/>
                  <a:pt x="3838" y="10295"/>
                  <a:pt x="3330" y="10929"/>
                </a:cubicBezTo>
                <a:cubicBezTo>
                  <a:pt x="3422" y="10863"/>
                  <a:pt x="3420" y="10896"/>
                  <a:pt x="3509" y="10827"/>
                </a:cubicBezTo>
                <a:cubicBezTo>
                  <a:pt x="4416" y="10120"/>
                  <a:pt x="5331" y="9430"/>
                  <a:pt x="6277" y="8778"/>
                </a:cubicBezTo>
                <a:cubicBezTo>
                  <a:pt x="6149" y="8901"/>
                  <a:pt x="6022" y="9033"/>
                  <a:pt x="5890" y="9155"/>
                </a:cubicBezTo>
                <a:cubicBezTo>
                  <a:pt x="5213" y="9782"/>
                  <a:pt x="4521" y="10451"/>
                  <a:pt x="3727" y="10926"/>
                </a:cubicBezTo>
                <a:cubicBezTo>
                  <a:pt x="3714" y="10923"/>
                  <a:pt x="3700" y="10919"/>
                  <a:pt x="3687" y="10916"/>
                </a:cubicBezTo>
                <a:cubicBezTo>
                  <a:pt x="3813" y="10765"/>
                  <a:pt x="3915" y="10582"/>
                  <a:pt x="4064" y="10430"/>
                </a:cubicBezTo>
                <a:cubicBezTo>
                  <a:pt x="4644" y="9838"/>
                  <a:pt x="5313" y="9364"/>
                  <a:pt x="5985" y="8886"/>
                </a:cubicBezTo>
                <a:cubicBezTo>
                  <a:pt x="5914" y="8966"/>
                  <a:pt x="5975" y="8949"/>
                  <a:pt x="5899" y="9025"/>
                </a:cubicBezTo>
                <a:cubicBezTo>
                  <a:pt x="5299" y="9624"/>
                  <a:pt x="3378" y="10518"/>
                  <a:pt x="4175" y="10807"/>
                </a:cubicBezTo>
                <a:cubicBezTo>
                  <a:pt x="4258" y="10837"/>
                  <a:pt x="6972" y="9016"/>
                  <a:pt x="6971" y="9023"/>
                </a:cubicBezTo>
                <a:cubicBezTo>
                  <a:pt x="6914" y="9353"/>
                  <a:pt x="5961" y="9941"/>
                  <a:pt x="5720" y="10139"/>
                </a:cubicBezTo>
                <a:cubicBezTo>
                  <a:pt x="5430" y="10377"/>
                  <a:pt x="5104" y="10565"/>
                  <a:pt x="4812" y="10739"/>
                </a:cubicBezTo>
                <a:cubicBezTo>
                  <a:pt x="4959" y="10552"/>
                  <a:pt x="5071" y="10355"/>
                  <a:pt x="5257" y="10178"/>
                </a:cubicBezTo>
                <a:cubicBezTo>
                  <a:pt x="5955" y="9516"/>
                  <a:pt x="6757" y="8971"/>
                  <a:pt x="7561" y="8450"/>
                </a:cubicBezTo>
                <a:cubicBezTo>
                  <a:pt x="7449" y="8563"/>
                  <a:pt x="7334" y="8695"/>
                  <a:pt x="7216" y="8809"/>
                </a:cubicBezTo>
                <a:cubicBezTo>
                  <a:pt x="6442" y="9554"/>
                  <a:pt x="3889" y="11071"/>
                  <a:pt x="4963" y="11099"/>
                </a:cubicBezTo>
                <a:cubicBezTo>
                  <a:pt x="5221" y="11106"/>
                  <a:pt x="5769" y="10568"/>
                  <a:pt x="5969" y="10436"/>
                </a:cubicBezTo>
                <a:cubicBezTo>
                  <a:pt x="6585" y="10030"/>
                  <a:pt x="7214" y="9660"/>
                  <a:pt x="7864" y="9318"/>
                </a:cubicBezTo>
                <a:cubicBezTo>
                  <a:pt x="7751" y="9422"/>
                  <a:pt x="7636" y="9551"/>
                  <a:pt x="7514" y="9656"/>
                </a:cubicBezTo>
                <a:cubicBezTo>
                  <a:pt x="6994" y="10101"/>
                  <a:pt x="6449" y="10481"/>
                  <a:pt x="5875" y="10822"/>
                </a:cubicBezTo>
                <a:cubicBezTo>
                  <a:pt x="5964" y="10703"/>
                  <a:pt x="6037" y="10499"/>
                  <a:pt x="6171" y="10360"/>
                </a:cubicBezTo>
                <a:cubicBezTo>
                  <a:pt x="7074" y="9423"/>
                  <a:pt x="9828" y="6867"/>
                  <a:pt x="9309" y="8060"/>
                </a:cubicBezTo>
                <a:cubicBezTo>
                  <a:pt x="9227" y="8248"/>
                  <a:pt x="8984" y="8407"/>
                  <a:pt x="8844" y="8546"/>
                </a:cubicBezTo>
                <a:cubicBezTo>
                  <a:pt x="8270" y="9115"/>
                  <a:pt x="7642" y="9633"/>
                  <a:pt x="7032" y="10163"/>
                </a:cubicBezTo>
                <a:cubicBezTo>
                  <a:pt x="6798" y="10362"/>
                  <a:pt x="6730" y="10421"/>
                  <a:pt x="6578" y="10549"/>
                </a:cubicBezTo>
                <a:cubicBezTo>
                  <a:pt x="6574" y="10551"/>
                  <a:pt x="6239" y="10796"/>
                  <a:pt x="6272" y="10762"/>
                </a:cubicBezTo>
                <a:cubicBezTo>
                  <a:pt x="6720" y="10297"/>
                  <a:pt x="7298" y="9932"/>
                  <a:pt x="7833" y="9578"/>
                </a:cubicBezTo>
                <a:cubicBezTo>
                  <a:pt x="7938" y="9509"/>
                  <a:pt x="9460" y="8512"/>
                  <a:pt x="9537" y="8621"/>
                </a:cubicBezTo>
                <a:cubicBezTo>
                  <a:pt x="9560" y="8653"/>
                  <a:pt x="8457" y="9465"/>
                  <a:pt x="8399" y="9509"/>
                </a:cubicBezTo>
                <a:cubicBezTo>
                  <a:pt x="7871" y="9907"/>
                  <a:pt x="7338" y="10298"/>
                  <a:pt x="6795" y="10673"/>
                </a:cubicBezTo>
                <a:cubicBezTo>
                  <a:pt x="6900" y="10565"/>
                  <a:pt x="7036" y="10373"/>
                  <a:pt x="7170" y="10254"/>
                </a:cubicBezTo>
                <a:cubicBezTo>
                  <a:pt x="7624" y="9853"/>
                  <a:pt x="9250" y="8290"/>
                  <a:pt x="9913" y="8428"/>
                </a:cubicBezTo>
                <a:cubicBezTo>
                  <a:pt x="10137" y="8475"/>
                  <a:pt x="9590" y="8747"/>
                  <a:pt x="9420" y="8901"/>
                </a:cubicBezTo>
                <a:cubicBezTo>
                  <a:pt x="8858" y="9412"/>
                  <a:pt x="8246" y="9873"/>
                  <a:pt x="7655" y="10349"/>
                </a:cubicBezTo>
                <a:cubicBezTo>
                  <a:pt x="7456" y="10515"/>
                  <a:pt x="7401" y="10561"/>
                  <a:pt x="7269" y="10662"/>
                </a:cubicBezTo>
                <a:cubicBezTo>
                  <a:pt x="7358" y="10587"/>
                  <a:pt x="7134" y="10754"/>
                  <a:pt x="7225" y="10681"/>
                </a:cubicBezTo>
                <a:cubicBezTo>
                  <a:pt x="8250" y="9853"/>
                  <a:pt x="11166" y="7409"/>
                  <a:pt x="10465" y="8525"/>
                </a:cubicBezTo>
                <a:cubicBezTo>
                  <a:pt x="9944" y="9355"/>
                  <a:pt x="8523" y="10046"/>
                  <a:pt x="7749" y="10669"/>
                </a:cubicBezTo>
                <a:cubicBezTo>
                  <a:pt x="7963" y="10516"/>
                  <a:pt x="8173" y="10359"/>
                  <a:pt x="8390" y="10210"/>
                </a:cubicBezTo>
                <a:cubicBezTo>
                  <a:pt x="9191" y="9660"/>
                  <a:pt x="10017" y="9157"/>
                  <a:pt x="10868" y="8689"/>
                </a:cubicBezTo>
                <a:cubicBezTo>
                  <a:pt x="10799" y="8751"/>
                  <a:pt x="11015" y="8641"/>
                  <a:pt x="10938" y="8693"/>
                </a:cubicBezTo>
                <a:cubicBezTo>
                  <a:pt x="9932" y="9373"/>
                  <a:pt x="7628" y="11914"/>
                  <a:pt x="7940" y="10741"/>
                </a:cubicBezTo>
                <a:cubicBezTo>
                  <a:pt x="8003" y="10502"/>
                  <a:pt x="8650" y="10160"/>
                  <a:pt x="8823" y="100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7"/>
          <p:cNvSpPr/>
          <p:nvPr/>
        </p:nvSpPr>
        <p:spPr>
          <a:xfrm>
            <a:off x="2952720" y="2801880"/>
            <a:ext cx="5381640" cy="1330560"/>
          </a:xfrm>
          <a:custGeom>
            <a:avLst/>
            <a:gdLst/>
            <a:ahLst/>
            <a:rect l="l" t="t" r="r" b="b"/>
            <a:pathLst>
              <a:path w="14950" h="3693">
                <a:moveTo>
                  <a:pt x="8823" y="10023"/>
                </a:moveTo>
                <a:cubicBezTo>
                  <a:pt x="9614" y="9447"/>
                  <a:pt x="11341" y="7483"/>
                  <a:pt x="11300" y="8460"/>
                </a:cubicBezTo>
                <a:cubicBezTo>
                  <a:pt x="11298" y="8519"/>
                  <a:pt x="11025" y="8679"/>
                  <a:pt x="10964" y="8726"/>
                </a:cubicBezTo>
                <a:cubicBezTo>
                  <a:pt x="10144" y="9361"/>
                  <a:pt x="9370" y="10023"/>
                  <a:pt x="8627" y="10748"/>
                </a:cubicBezTo>
                <a:cubicBezTo>
                  <a:pt x="8539" y="10833"/>
                  <a:pt x="8521" y="10850"/>
                  <a:pt x="8470" y="10903"/>
                </a:cubicBezTo>
                <a:cubicBezTo>
                  <a:pt x="8921" y="10526"/>
                  <a:pt x="9382" y="10168"/>
                  <a:pt x="9864" y="9827"/>
                </a:cubicBezTo>
                <a:cubicBezTo>
                  <a:pt x="10518" y="9365"/>
                  <a:pt x="11168" y="8887"/>
                  <a:pt x="11812" y="8416"/>
                </a:cubicBezTo>
                <a:cubicBezTo>
                  <a:pt x="11048" y="9186"/>
                  <a:pt x="8482" y="10511"/>
                  <a:pt x="9552" y="10684"/>
                </a:cubicBezTo>
                <a:cubicBezTo>
                  <a:pt x="10039" y="10763"/>
                  <a:pt x="11246" y="9901"/>
                  <a:pt x="11675" y="9692"/>
                </a:cubicBezTo>
                <a:cubicBezTo>
                  <a:pt x="12087" y="9491"/>
                  <a:pt x="12494" y="9283"/>
                  <a:pt x="12887" y="9054"/>
                </a:cubicBezTo>
                <a:cubicBezTo>
                  <a:pt x="12636" y="9190"/>
                  <a:pt x="12389" y="9324"/>
                  <a:pt x="12146" y="9480"/>
                </a:cubicBezTo>
                <a:cubicBezTo>
                  <a:pt x="11464" y="9918"/>
                  <a:pt x="10501" y="11577"/>
                  <a:pt x="10142" y="10851"/>
                </a:cubicBezTo>
                <a:cubicBezTo>
                  <a:pt x="10098" y="10761"/>
                  <a:pt x="10342" y="10564"/>
                  <a:pt x="10391" y="10510"/>
                </a:cubicBezTo>
                <a:cubicBezTo>
                  <a:pt x="11117" y="9720"/>
                  <a:pt x="13614" y="7980"/>
                  <a:pt x="12869" y="8752"/>
                </a:cubicBezTo>
                <a:cubicBezTo>
                  <a:pt x="12186" y="9459"/>
                  <a:pt x="11356" y="10098"/>
                  <a:pt x="10609" y="10739"/>
                </a:cubicBezTo>
                <a:cubicBezTo>
                  <a:pt x="10680" y="10649"/>
                  <a:pt x="10696" y="10583"/>
                  <a:pt x="10774" y="10499"/>
                </a:cubicBezTo>
                <a:cubicBezTo>
                  <a:pt x="11527" y="9689"/>
                  <a:pt x="12445" y="9048"/>
                  <a:pt x="13175" y="8220"/>
                </a:cubicBezTo>
                <a:cubicBezTo>
                  <a:pt x="13023" y="8283"/>
                  <a:pt x="12820" y="8354"/>
                  <a:pt x="12651" y="8446"/>
                </a:cubicBezTo>
                <a:cubicBezTo>
                  <a:pt x="12333" y="8620"/>
                  <a:pt x="9817" y="10472"/>
                  <a:pt x="9579" y="10269"/>
                </a:cubicBezTo>
                <a:cubicBezTo>
                  <a:pt x="9479" y="10184"/>
                  <a:pt x="9583" y="10135"/>
                  <a:pt x="9693" y="10003"/>
                </a:cubicBezTo>
                <a:cubicBezTo>
                  <a:pt x="10344" y="9223"/>
                  <a:pt x="11334" y="8608"/>
                  <a:pt x="12201" y="8103"/>
                </a:cubicBezTo>
                <a:cubicBezTo>
                  <a:pt x="12111" y="8217"/>
                  <a:pt x="12102" y="8304"/>
                  <a:pt x="12000" y="8407"/>
                </a:cubicBezTo>
                <a:cubicBezTo>
                  <a:pt x="11223" y="9192"/>
                  <a:pt x="10262" y="10148"/>
                  <a:pt x="9264" y="10646"/>
                </a:cubicBezTo>
                <a:cubicBezTo>
                  <a:pt x="9195" y="10667"/>
                  <a:pt x="9182" y="10684"/>
                  <a:pt x="9146" y="10655"/>
                </a:cubicBezTo>
                <a:cubicBezTo>
                  <a:pt x="9317" y="10428"/>
                  <a:pt x="9474" y="10214"/>
                  <a:pt x="9683" y="10006"/>
                </a:cubicBezTo>
                <a:cubicBezTo>
                  <a:pt x="10118" y="9573"/>
                  <a:pt x="10929" y="8855"/>
                  <a:pt x="11586" y="8832"/>
                </a:cubicBezTo>
                <a:cubicBezTo>
                  <a:pt x="11798" y="8825"/>
                  <a:pt x="11884" y="8839"/>
                  <a:pt x="11876" y="9064"/>
                </a:cubicBezTo>
                <a:cubicBezTo>
                  <a:pt x="11853" y="9669"/>
                  <a:pt x="10895" y="10429"/>
                  <a:pt x="10555" y="10892"/>
                </a:cubicBezTo>
                <a:cubicBezTo>
                  <a:pt x="10514" y="10947"/>
                  <a:pt x="10465" y="11037"/>
                  <a:pt x="10425" y="11092"/>
                </a:cubicBezTo>
                <a:cubicBezTo>
                  <a:pt x="10630" y="10922"/>
                  <a:pt x="10834" y="10748"/>
                  <a:pt x="11038" y="10576"/>
                </a:cubicBezTo>
                <a:cubicBezTo>
                  <a:pt x="11615" y="10088"/>
                  <a:pt x="12204" y="9617"/>
                  <a:pt x="12765" y="9111"/>
                </a:cubicBezTo>
                <a:cubicBezTo>
                  <a:pt x="12655" y="9157"/>
                  <a:pt x="12593" y="9145"/>
                  <a:pt x="12488" y="9201"/>
                </a:cubicBezTo>
                <a:cubicBezTo>
                  <a:pt x="11463" y="9752"/>
                  <a:pt x="10328" y="10963"/>
                  <a:pt x="9157" y="11144"/>
                </a:cubicBezTo>
                <a:cubicBezTo>
                  <a:pt x="8891" y="11185"/>
                  <a:pt x="8863" y="11169"/>
                  <a:pt x="8846" y="10930"/>
                </a:cubicBezTo>
                <a:cubicBezTo>
                  <a:pt x="8808" y="10408"/>
                  <a:pt x="10161" y="9473"/>
                  <a:pt x="9796" y="9848"/>
                </a:cubicBezTo>
                <a:cubicBezTo>
                  <a:pt x="9628" y="10020"/>
                  <a:pt x="9442" y="10177"/>
                  <a:pt x="9267" y="10342"/>
                </a:cubicBezTo>
                <a:cubicBezTo>
                  <a:pt x="8908" y="10682"/>
                  <a:pt x="8553" y="11026"/>
                  <a:pt x="8203" y="11374"/>
                </a:cubicBezTo>
                <a:cubicBezTo>
                  <a:pt x="8598" y="11095"/>
                  <a:pt x="8988" y="10810"/>
                  <a:pt x="9399" y="10553"/>
                </a:cubicBezTo>
                <a:cubicBezTo>
                  <a:pt x="10429" y="9910"/>
                  <a:pt x="11809" y="9122"/>
                  <a:pt x="13074" y="9208"/>
                </a:cubicBezTo>
                <a:cubicBezTo>
                  <a:pt x="13451" y="9234"/>
                  <a:pt x="13662" y="9367"/>
                  <a:pt x="13626" y="9751"/>
                </a:cubicBezTo>
                <a:cubicBezTo>
                  <a:pt x="13569" y="10363"/>
                  <a:pt x="12728" y="10965"/>
                  <a:pt x="12304" y="11330"/>
                </a:cubicBezTo>
                <a:cubicBezTo>
                  <a:pt x="12289" y="11333"/>
                  <a:pt x="12030" y="11562"/>
                  <a:pt x="12032" y="11441"/>
                </a:cubicBezTo>
                <a:cubicBezTo>
                  <a:pt x="12035" y="11269"/>
                  <a:pt x="12358" y="11005"/>
                  <a:pt x="12461" y="10901"/>
                </a:cubicBezTo>
                <a:cubicBezTo>
                  <a:pt x="13019" y="10334"/>
                  <a:pt x="13673" y="9857"/>
                  <a:pt x="14279" y="9345"/>
                </a:cubicBezTo>
                <a:cubicBezTo>
                  <a:pt x="14002" y="9498"/>
                  <a:pt x="13726" y="9651"/>
                  <a:pt x="13453" y="9812"/>
                </a:cubicBezTo>
                <a:cubicBezTo>
                  <a:pt x="12967" y="10099"/>
                  <a:pt x="11847" y="11079"/>
                  <a:pt x="11241" y="10993"/>
                </a:cubicBezTo>
                <a:cubicBezTo>
                  <a:pt x="11078" y="10970"/>
                  <a:pt x="11153" y="10914"/>
                  <a:pt x="11174" y="10795"/>
                </a:cubicBezTo>
                <a:cubicBezTo>
                  <a:pt x="11285" y="10158"/>
                  <a:pt x="12665" y="9471"/>
                  <a:pt x="13170" y="9217"/>
                </a:cubicBezTo>
                <a:cubicBezTo>
                  <a:pt x="13346" y="9128"/>
                  <a:pt x="13525" y="9045"/>
                  <a:pt x="13720" y="9036"/>
                </a:cubicBezTo>
                <a:cubicBezTo>
                  <a:pt x="13720" y="9079"/>
                  <a:pt x="13712" y="9099"/>
                  <a:pt x="13676" y="9120"/>
                </a:cubicBezTo>
                <a:cubicBezTo>
                  <a:pt x="12988" y="9663"/>
                  <a:pt x="12147" y="10380"/>
                  <a:pt x="11286" y="10613"/>
                </a:cubicBezTo>
                <a:cubicBezTo>
                  <a:pt x="11147" y="10651"/>
                  <a:pt x="11046" y="10587"/>
                  <a:pt x="10963" y="10593"/>
                </a:cubicBezTo>
                <a:cubicBezTo>
                  <a:pt x="11090" y="10430"/>
                  <a:pt x="11145" y="10276"/>
                  <a:pt x="11334" y="10128"/>
                </a:cubicBezTo>
                <a:cubicBezTo>
                  <a:pt x="12151" y="9488"/>
                  <a:pt x="13586" y="8873"/>
                  <a:pt x="14649" y="8977"/>
                </a:cubicBezTo>
                <a:cubicBezTo>
                  <a:pt x="14749" y="8987"/>
                  <a:pt x="14941" y="8958"/>
                  <a:pt x="14931" y="9090"/>
                </a:cubicBezTo>
                <a:cubicBezTo>
                  <a:pt x="14918" y="9260"/>
                  <a:pt x="14202" y="9547"/>
                  <a:pt x="14086" y="9613"/>
                </a:cubicBezTo>
                <a:cubicBezTo>
                  <a:pt x="13480" y="9957"/>
                  <a:pt x="12887" y="10348"/>
                  <a:pt x="12248" y="10626"/>
                </a:cubicBezTo>
                <a:cubicBezTo>
                  <a:pt x="12236" y="10627"/>
                  <a:pt x="12225" y="10628"/>
                  <a:pt x="12213" y="10629"/>
                </a:cubicBezTo>
                <a:cubicBezTo>
                  <a:pt x="12275" y="10575"/>
                  <a:pt x="12355" y="10476"/>
                  <a:pt x="12435" y="10417"/>
                </a:cubicBezTo>
                <a:cubicBezTo>
                  <a:pt x="12992" y="10007"/>
                  <a:pt x="15291" y="8325"/>
                  <a:pt x="15982" y="8567"/>
                </a:cubicBezTo>
                <a:cubicBezTo>
                  <a:pt x="16144" y="8624"/>
                  <a:pt x="16093" y="8501"/>
                  <a:pt x="16079" y="8675"/>
                </a:cubicBezTo>
                <a:cubicBezTo>
                  <a:pt x="16046" y="9095"/>
                  <a:pt x="14392" y="9922"/>
                  <a:pt x="14073" y="10130"/>
                </a:cubicBezTo>
                <a:cubicBezTo>
                  <a:pt x="13828" y="10290"/>
                  <a:pt x="13580" y="10440"/>
                  <a:pt x="13331" y="10593"/>
                </a:cubicBezTo>
                <a:cubicBezTo>
                  <a:pt x="13128" y="10696"/>
                  <a:pt x="12927" y="10793"/>
                  <a:pt x="12720" y="10888"/>
                </a:cubicBezTo>
                <a:cubicBezTo>
                  <a:pt x="12744" y="10832"/>
                  <a:pt x="12537" y="10901"/>
                  <a:pt x="12581" y="10859"/>
                </a:cubicBezTo>
                <a:cubicBezTo>
                  <a:pt x="12786" y="10663"/>
                  <a:pt x="13025" y="10524"/>
                  <a:pt x="13283" y="10399"/>
                </a:cubicBezTo>
                <a:cubicBezTo>
                  <a:pt x="14132" y="9987"/>
                  <a:pt x="15049" y="9748"/>
                  <a:pt x="15962" y="9532"/>
                </a:cubicBezTo>
                <a:cubicBezTo>
                  <a:pt x="15985" y="9529"/>
                  <a:pt x="16313" y="9467"/>
                  <a:pt x="16238" y="9496"/>
                </a:cubicBezTo>
                <a:cubicBezTo>
                  <a:pt x="15115" y="9935"/>
                  <a:pt x="13972" y="10678"/>
                  <a:pt x="12852" y="11038"/>
                </a:cubicBezTo>
                <a:cubicBezTo>
                  <a:pt x="12781" y="11061"/>
                  <a:pt x="12787" y="10996"/>
                  <a:pt x="12716" y="11018"/>
                </a:cubicBezTo>
                <a:cubicBezTo>
                  <a:pt x="13073" y="10627"/>
                  <a:pt x="13433" y="10276"/>
                  <a:pt x="13865" y="9959"/>
                </a:cubicBezTo>
                <a:cubicBezTo>
                  <a:pt x="14698" y="9348"/>
                  <a:pt x="15830" y="8503"/>
                  <a:pt x="16893" y="8377"/>
                </a:cubicBezTo>
                <a:cubicBezTo>
                  <a:pt x="17005" y="8364"/>
                  <a:pt x="17295" y="8305"/>
                  <a:pt x="17256" y="8505"/>
                </a:cubicBezTo>
                <a:cubicBezTo>
                  <a:pt x="17201" y="8785"/>
                  <a:pt x="16617" y="9096"/>
                  <a:pt x="16420" y="9258"/>
                </a:cubicBezTo>
                <a:cubicBezTo>
                  <a:pt x="16044" y="9568"/>
                  <a:pt x="15696" y="9890"/>
                  <a:pt x="15352" y="10234"/>
                </a:cubicBezTo>
                <a:cubicBezTo>
                  <a:pt x="15329" y="10260"/>
                  <a:pt x="15052" y="10541"/>
                  <a:pt x="15154" y="10444"/>
                </a:cubicBezTo>
                <a:cubicBezTo>
                  <a:pt x="15577" y="10044"/>
                  <a:pt x="17341" y="8257"/>
                  <a:pt x="17986" y="8539"/>
                </a:cubicBezTo>
                <a:cubicBezTo>
                  <a:pt x="18065" y="8574"/>
                  <a:pt x="17827" y="8653"/>
                  <a:pt x="17834" y="8666"/>
                </a:cubicBezTo>
                <a:cubicBezTo>
                  <a:pt x="16940" y="9113"/>
                  <a:pt x="16046" y="9557"/>
                  <a:pt x="15162" y="10024"/>
                </a:cubicBezTo>
                <a:cubicBezTo>
                  <a:pt x="15003" y="10095"/>
                  <a:pt x="14560" y="10351"/>
                  <a:pt x="14690" y="10235"/>
                </a:cubicBezTo>
                <a:cubicBezTo>
                  <a:pt x="14848" y="10094"/>
                  <a:pt x="15062" y="9999"/>
                  <a:pt x="15252" y="9909"/>
                </a:cubicBezTo>
                <a:cubicBezTo>
                  <a:pt x="16406" y="9364"/>
                  <a:pt x="17795" y="8933"/>
                  <a:pt x="19083" y="8953"/>
                </a:cubicBezTo>
                <a:cubicBezTo>
                  <a:pt x="19143" y="8954"/>
                  <a:pt x="19742" y="8962"/>
                  <a:pt x="19741" y="9102"/>
                </a:cubicBezTo>
                <a:cubicBezTo>
                  <a:pt x="19740" y="9229"/>
                  <a:pt x="19594" y="9247"/>
                  <a:pt x="19498" y="9299"/>
                </a:cubicBezTo>
                <a:cubicBezTo>
                  <a:pt x="18961" y="9594"/>
                  <a:pt x="18031" y="9766"/>
                  <a:pt x="17419" y="9683"/>
                </a:cubicBezTo>
                <a:cubicBezTo>
                  <a:pt x="17386" y="9669"/>
                  <a:pt x="17376" y="9667"/>
                  <a:pt x="17365" y="9645"/>
                </a:cubicBezTo>
                <a:cubicBezTo>
                  <a:pt x="17464" y="9591"/>
                  <a:pt x="17558" y="9494"/>
                  <a:pt x="17685" y="9444"/>
                </a:cubicBezTo>
                <a:cubicBezTo>
                  <a:pt x="18543" y="9106"/>
                  <a:pt x="19635" y="8960"/>
                  <a:pt x="20544" y="9131"/>
                </a:cubicBezTo>
                <a:cubicBezTo>
                  <a:pt x="20552" y="9137"/>
                  <a:pt x="20559" y="9142"/>
                  <a:pt x="20567" y="9148"/>
                </a:cubicBezTo>
                <a:cubicBezTo>
                  <a:pt x="20453" y="9152"/>
                  <a:pt x="20323" y="9164"/>
                  <a:pt x="20205" y="9166"/>
                </a:cubicBezTo>
                <a:cubicBezTo>
                  <a:pt x="18673" y="9192"/>
                  <a:pt x="16587" y="10055"/>
                  <a:pt x="15153" y="9821"/>
                </a:cubicBezTo>
                <a:cubicBezTo>
                  <a:pt x="15073" y="9808"/>
                  <a:pt x="15102" y="9784"/>
                  <a:pt x="15026" y="9757"/>
                </a:cubicBezTo>
                <a:cubicBezTo>
                  <a:pt x="15056" y="9740"/>
                  <a:pt x="15085" y="9723"/>
                  <a:pt x="15115" y="9706"/>
                </a:cubicBezTo>
                <a:cubicBezTo>
                  <a:pt x="16261" y="9249"/>
                  <a:pt x="17450" y="9060"/>
                  <a:pt x="18683" y="8999"/>
                </a:cubicBezTo>
                <a:cubicBezTo>
                  <a:pt x="20075" y="8930"/>
                  <a:pt x="21664" y="8823"/>
                  <a:pt x="23040" y="9110"/>
                </a:cubicBezTo>
                <a:cubicBezTo>
                  <a:pt x="23108" y="9130"/>
                  <a:pt x="23124" y="9127"/>
                  <a:pt x="23152" y="9161"/>
                </a:cubicBezTo>
                <a:cubicBezTo>
                  <a:pt x="23033" y="9180"/>
                  <a:pt x="22899" y="9232"/>
                  <a:pt x="22763" y="9243"/>
                </a:cubicBezTo>
                <a:cubicBezTo>
                  <a:pt x="21275" y="9360"/>
                  <a:pt x="19764" y="9372"/>
                  <a:pt x="18272" y="9452"/>
                </a:cubicBezTo>
                <a:cubicBezTo>
                  <a:pt x="17922" y="9471"/>
                  <a:pt x="17582" y="9470"/>
                  <a:pt x="17237" y="9452"/>
                </a:cubicBezTo>
                <a:cubicBezTo>
                  <a:pt x="17315" y="9436"/>
                  <a:pt x="17412" y="9398"/>
                  <a:pt x="17497" y="9383"/>
                </a:cubicBezTo>
                <a:cubicBezTo>
                  <a:pt x="17951" y="9301"/>
                  <a:pt x="22682" y="9010"/>
                  <a:pt x="22663" y="9070"/>
                </a:cubicBezTo>
                <a:cubicBezTo>
                  <a:pt x="22645" y="9127"/>
                  <a:pt x="22416" y="9125"/>
                  <a:pt x="22382" y="9132"/>
                </a:cubicBezTo>
                <a:cubicBezTo>
                  <a:pt x="21401" y="9334"/>
                  <a:pt x="20395" y="9469"/>
                  <a:pt x="19408" y="9651"/>
                </a:cubicBezTo>
                <a:cubicBezTo>
                  <a:pt x="19191" y="9676"/>
                  <a:pt x="18983" y="9689"/>
                  <a:pt x="18768" y="9702"/>
                </a:cubicBezTo>
                <a:cubicBezTo>
                  <a:pt x="18842" y="9673"/>
                  <a:pt x="18868" y="9623"/>
                  <a:pt x="18943" y="9599"/>
                </a:cubicBezTo>
                <a:cubicBezTo>
                  <a:pt x="20089" y="9240"/>
                  <a:pt x="21582" y="9080"/>
                  <a:pt x="22764" y="9331"/>
                </a:cubicBezTo>
                <a:cubicBezTo>
                  <a:pt x="22779" y="9334"/>
                  <a:pt x="23101" y="9380"/>
                  <a:pt x="23056" y="9463"/>
                </a:cubicBezTo>
                <a:cubicBezTo>
                  <a:pt x="22974" y="9614"/>
                  <a:pt x="22589" y="9667"/>
                  <a:pt x="22452" y="9718"/>
                </a:cubicBezTo>
                <a:cubicBezTo>
                  <a:pt x="21756" y="9978"/>
                  <a:pt x="21068" y="10248"/>
                  <a:pt x="20382" y="10533"/>
                </a:cubicBezTo>
                <a:cubicBezTo>
                  <a:pt x="20324" y="10474"/>
                  <a:pt x="20099" y="10607"/>
                  <a:pt x="20166" y="10558"/>
                </a:cubicBezTo>
                <a:cubicBezTo>
                  <a:pt x="20564" y="10264"/>
                  <a:pt x="21057" y="10119"/>
                  <a:pt x="21535" y="10010"/>
                </a:cubicBezTo>
                <a:cubicBezTo>
                  <a:pt x="21804" y="9949"/>
                  <a:pt x="22068" y="9929"/>
                  <a:pt x="22340" y="9899"/>
                </a:cubicBezTo>
                <a:cubicBezTo>
                  <a:pt x="22481" y="9934"/>
                  <a:pt x="22854" y="9877"/>
                  <a:pt x="22751" y="9980"/>
                </a:cubicBezTo>
                <a:cubicBezTo>
                  <a:pt x="22640" y="10092"/>
                  <a:pt x="22389" y="10090"/>
                  <a:pt x="22246" y="10113"/>
                </a:cubicBezTo>
                <a:cubicBezTo>
                  <a:pt x="21845" y="10178"/>
                  <a:pt x="20755" y="10409"/>
                  <a:pt x="20402" y="10122"/>
                </a:cubicBezTo>
                <a:cubicBezTo>
                  <a:pt x="20292" y="10032"/>
                  <a:pt x="20300" y="10012"/>
                  <a:pt x="20384" y="9899"/>
                </a:cubicBezTo>
                <a:cubicBezTo>
                  <a:pt x="20739" y="9421"/>
                  <a:pt x="22386" y="8798"/>
                  <a:pt x="21921" y="9170"/>
                </a:cubicBezTo>
                <a:cubicBezTo>
                  <a:pt x="21481" y="9521"/>
                  <a:pt x="20423" y="9906"/>
                  <a:pt x="20023" y="10003"/>
                </a:cubicBezTo>
                <a:cubicBezTo>
                  <a:pt x="20050" y="9988"/>
                  <a:pt x="20078" y="9974"/>
                  <a:pt x="20105" y="9959"/>
                </a:cubicBezTo>
                <a:cubicBezTo>
                  <a:pt x="20669" y="9708"/>
                  <a:pt x="21415" y="9401"/>
                  <a:pt x="21894" y="9194"/>
                </a:cubicBezTo>
                <a:cubicBezTo>
                  <a:pt x="21177" y="9451"/>
                  <a:pt x="19514" y="10638"/>
                  <a:pt x="19755" y="9915"/>
                </a:cubicBezTo>
                <a:cubicBezTo>
                  <a:pt x="19810" y="9751"/>
                  <a:pt x="20336" y="9596"/>
                  <a:pt x="20465" y="9542"/>
                </a:cubicBezTo>
                <a:cubicBezTo>
                  <a:pt x="20938" y="9344"/>
                  <a:pt x="21426" y="9189"/>
                  <a:pt x="21912" y="9029"/>
                </a:cubicBezTo>
                <a:cubicBezTo>
                  <a:pt x="22021" y="9001"/>
                  <a:pt x="22232" y="8924"/>
                  <a:pt x="22129" y="8967"/>
                </a:cubicBezTo>
                <a:cubicBezTo>
                  <a:pt x="21949" y="9043"/>
                  <a:pt x="20085" y="9697"/>
                  <a:pt x="20062" y="9573"/>
                </a:cubicBezTo>
                <a:cubicBezTo>
                  <a:pt x="20047" y="9492"/>
                  <a:pt x="20145" y="9463"/>
                  <a:pt x="20199" y="9423"/>
                </a:cubicBezTo>
                <a:cubicBezTo>
                  <a:pt x="20348" y="9313"/>
                  <a:pt x="21192" y="9001"/>
                  <a:pt x="21339" y="9205"/>
                </a:cubicBezTo>
                <a:cubicBezTo>
                  <a:pt x="21449" y="9359"/>
                  <a:pt x="21321" y="9480"/>
                  <a:pt x="21249" y="9630"/>
                </a:cubicBezTo>
                <a:cubicBezTo>
                  <a:pt x="21188" y="9758"/>
                  <a:pt x="20605" y="10268"/>
                  <a:pt x="20652" y="10393"/>
                </a:cubicBezTo>
                <a:cubicBezTo>
                  <a:pt x="20677" y="10460"/>
                  <a:pt x="20853" y="10338"/>
                  <a:pt x="20878" y="10350"/>
                </a:cubicBezTo>
                <a:cubicBezTo>
                  <a:pt x="21032" y="10270"/>
                  <a:pt x="21807" y="9984"/>
                  <a:pt x="21796" y="9753"/>
                </a:cubicBezTo>
                <a:cubicBezTo>
                  <a:pt x="21789" y="9598"/>
                  <a:pt x="21613" y="9644"/>
                  <a:pt x="21496" y="9609"/>
                </a:cubicBezTo>
                <a:cubicBezTo>
                  <a:pt x="21415" y="9585"/>
                  <a:pt x="21017" y="9627"/>
                  <a:pt x="21009" y="9479"/>
                </a:cubicBezTo>
                <a:cubicBezTo>
                  <a:pt x="20999" y="9306"/>
                  <a:pt x="21369" y="9263"/>
                  <a:pt x="21476" y="9252"/>
                </a:cubicBezTo>
                <a:cubicBezTo>
                  <a:pt x="21521" y="9247"/>
                  <a:pt x="21770" y="9221"/>
                  <a:pt x="21767" y="9310"/>
                </a:cubicBezTo>
                <a:cubicBezTo>
                  <a:pt x="21763" y="9418"/>
                  <a:pt x="21476" y="9499"/>
                  <a:pt x="21408" y="9536"/>
                </a:cubicBezTo>
                <a:cubicBezTo>
                  <a:pt x="21200" y="9648"/>
                  <a:pt x="20974" y="9677"/>
                  <a:pt x="20751" y="9738"/>
                </a:cubicBezTo>
                <a:cubicBezTo>
                  <a:pt x="20716" y="9633"/>
                  <a:pt x="20534" y="9805"/>
                  <a:pt x="20598" y="9558"/>
                </a:cubicBezTo>
                <a:cubicBezTo>
                  <a:pt x="20752" y="8960"/>
                  <a:pt x="22408" y="8485"/>
                  <a:pt x="21836" y="8253"/>
                </a:cubicBezTo>
                <a:cubicBezTo>
                  <a:pt x="21502" y="8117"/>
                  <a:pt x="20114" y="8845"/>
                  <a:pt x="19909" y="8506"/>
                </a:cubicBezTo>
                <a:cubicBezTo>
                  <a:pt x="19830" y="8375"/>
                  <a:pt x="19989" y="8272"/>
                  <a:pt x="20072" y="8182"/>
                </a:cubicBezTo>
                <a:cubicBezTo>
                  <a:pt x="20166" y="8080"/>
                  <a:pt x="20514" y="7903"/>
                  <a:pt x="20394" y="7971"/>
                </a:cubicBezTo>
                <a:cubicBezTo>
                  <a:pt x="20025" y="8179"/>
                  <a:pt x="19705" y="8322"/>
                  <a:pt x="19297" y="8436"/>
                </a:cubicBezTo>
                <a:cubicBezTo>
                  <a:pt x="19364" y="8402"/>
                  <a:pt x="19373" y="8358"/>
                  <a:pt x="19442" y="8328"/>
                </a:cubicBezTo>
                <a:cubicBezTo>
                  <a:pt x="20045" y="8067"/>
                  <a:pt x="20670" y="7948"/>
                  <a:pt x="21314" y="7865"/>
                </a:cubicBezTo>
                <a:cubicBezTo>
                  <a:pt x="21248" y="7938"/>
                  <a:pt x="21317" y="7982"/>
                  <a:pt x="21234" y="8035"/>
                </a:cubicBezTo>
                <a:cubicBezTo>
                  <a:pt x="20534" y="8477"/>
                  <a:pt x="19377" y="8746"/>
                  <a:pt x="18560" y="8803"/>
                </a:cubicBezTo>
                <a:cubicBezTo>
                  <a:pt x="18447" y="8811"/>
                  <a:pt x="18174" y="8845"/>
                  <a:pt x="18124" y="8688"/>
                </a:cubicBezTo>
                <a:cubicBezTo>
                  <a:pt x="18044" y="8438"/>
                  <a:pt x="18553" y="8200"/>
                  <a:pt x="18703" y="8132"/>
                </a:cubicBezTo>
                <a:cubicBezTo>
                  <a:pt x="19368" y="7829"/>
                  <a:pt x="20075" y="7794"/>
                  <a:pt x="20790" y="7801"/>
                </a:cubicBezTo>
                <a:cubicBezTo>
                  <a:pt x="20794" y="7803"/>
                  <a:pt x="21262" y="7866"/>
                  <a:pt x="21148" y="7969"/>
                </a:cubicBezTo>
                <a:cubicBezTo>
                  <a:pt x="20980" y="8121"/>
                  <a:pt x="20516" y="8086"/>
                  <a:pt x="20315" y="8105"/>
                </a:cubicBezTo>
                <a:cubicBezTo>
                  <a:pt x="19314" y="8202"/>
                  <a:pt x="18305" y="8270"/>
                  <a:pt x="17302" y="8222"/>
                </a:cubicBezTo>
                <a:cubicBezTo>
                  <a:pt x="17366" y="8224"/>
                  <a:pt x="17389" y="8218"/>
                  <a:pt x="17453" y="8221"/>
                </a:cubicBezTo>
                <a:cubicBezTo>
                  <a:pt x="18623" y="8280"/>
                  <a:pt x="20567" y="8067"/>
                  <a:pt x="21619" y="8632"/>
                </a:cubicBezTo>
                <a:cubicBezTo>
                  <a:pt x="21699" y="8675"/>
                  <a:pt x="21701" y="8778"/>
                  <a:pt x="21721" y="8792"/>
                </a:cubicBezTo>
                <a:cubicBezTo>
                  <a:pt x="21358" y="9002"/>
                  <a:pt x="21110" y="9088"/>
                  <a:pt x="20658" y="9124"/>
                </a:cubicBezTo>
                <a:cubicBezTo>
                  <a:pt x="19547" y="9212"/>
                  <a:pt x="18476" y="9271"/>
                  <a:pt x="17385" y="9530"/>
                </a:cubicBezTo>
                <a:cubicBezTo>
                  <a:pt x="16646" y="9705"/>
                  <a:pt x="15921" y="9932"/>
                  <a:pt x="15199" y="10168"/>
                </a:cubicBezTo>
                <a:cubicBezTo>
                  <a:pt x="15014" y="10218"/>
                  <a:pt x="14540" y="10484"/>
                  <a:pt x="14655" y="10331"/>
                </a:cubicBezTo>
                <a:cubicBezTo>
                  <a:pt x="14738" y="10221"/>
                  <a:pt x="14879" y="10171"/>
                  <a:pt x="15004" y="10121"/>
                </a:cubicBezTo>
                <a:cubicBezTo>
                  <a:pt x="15754" y="9824"/>
                  <a:pt x="16936" y="9699"/>
                  <a:pt x="17712" y="9969"/>
                </a:cubicBezTo>
                <a:cubicBezTo>
                  <a:pt x="17809" y="10003"/>
                  <a:pt x="18052" y="10047"/>
                  <a:pt x="17972" y="10112"/>
                </a:cubicBezTo>
                <a:cubicBezTo>
                  <a:pt x="17868" y="10196"/>
                  <a:pt x="17667" y="10166"/>
                  <a:pt x="17545" y="10178"/>
                </a:cubicBezTo>
                <a:cubicBezTo>
                  <a:pt x="16319" y="10297"/>
                  <a:pt x="15163" y="10426"/>
                  <a:pt x="13953" y="10676"/>
                </a:cubicBezTo>
                <a:cubicBezTo>
                  <a:pt x="13866" y="10694"/>
                  <a:pt x="13734" y="10732"/>
                  <a:pt x="13661" y="10717"/>
                </a:cubicBezTo>
                <a:cubicBezTo>
                  <a:pt x="13725" y="10685"/>
                  <a:pt x="13756" y="10670"/>
                  <a:pt x="13806" y="10652"/>
                </a:cubicBezTo>
                <a:cubicBezTo>
                  <a:pt x="14572" y="10388"/>
                  <a:pt x="16501" y="9533"/>
                  <a:pt x="17294" y="9978"/>
                </a:cubicBezTo>
                <a:cubicBezTo>
                  <a:pt x="17347" y="10008"/>
                  <a:pt x="17442" y="9993"/>
                  <a:pt x="17390" y="10069"/>
                </a:cubicBezTo>
                <a:cubicBezTo>
                  <a:pt x="17263" y="10255"/>
                  <a:pt x="16459" y="10280"/>
                  <a:pt x="16267" y="10318"/>
                </a:cubicBezTo>
                <a:cubicBezTo>
                  <a:pt x="15574" y="10455"/>
                  <a:pt x="14894" y="10630"/>
                  <a:pt x="14212" y="10814"/>
                </a:cubicBezTo>
                <a:cubicBezTo>
                  <a:pt x="14078" y="10857"/>
                  <a:pt x="13706" y="10915"/>
                  <a:pt x="13846" y="10924"/>
                </a:cubicBezTo>
                <a:cubicBezTo>
                  <a:pt x="14728" y="10981"/>
                  <a:pt x="15838" y="10447"/>
                  <a:pt x="16717" y="10294"/>
                </a:cubicBezTo>
                <a:cubicBezTo>
                  <a:pt x="16659" y="10316"/>
                  <a:pt x="16560" y="10375"/>
                  <a:pt x="16488" y="10398"/>
                </a:cubicBezTo>
                <a:cubicBezTo>
                  <a:pt x="15725" y="10646"/>
                  <a:pt x="14791" y="10784"/>
                  <a:pt x="14086" y="10972"/>
                </a:cubicBezTo>
                <a:cubicBezTo>
                  <a:pt x="14104" y="10970"/>
                  <a:pt x="14122" y="10969"/>
                  <a:pt x="14140" y="10967"/>
                </a:cubicBezTo>
                <a:cubicBezTo>
                  <a:pt x="14481" y="10923"/>
                  <a:pt x="17718" y="10434"/>
                  <a:pt x="17721" y="10568"/>
                </a:cubicBezTo>
                <a:cubicBezTo>
                  <a:pt x="17724" y="10682"/>
                  <a:pt x="17700" y="10646"/>
                  <a:pt x="17593" y="10737"/>
                </a:cubicBezTo>
                <a:cubicBezTo>
                  <a:pt x="17185" y="11082"/>
                  <a:pt x="16141" y="11040"/>
                  <a:pt x="15652" y="11101"/>
                </a:cubicBezTo>
                <a:cubicBezTo>
                  <a:pt x="14886" y="11197"/>
                  <a:pt x="13704" y="11553"/>
                  <a:pt x="12950" y="11269"/>
                </a:cubicBezTo>
                <a:cubicBezTo>
                  <a:pt x="12749" y="11194"/>
                  <a:pt x="12715" y="11061"/>
                  <a:pt x="12568" y="1093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8"/>
          <p:cNvSpPr/>
          <p:nvPr/>
        </p:nvSpPr>
        <p:spPr>
          <a:xfrm>
            <a:off x="3314880" y="6788160"/>
            <a:ext cx="444240" cy="38160"/>
          </a:xfrm>
          <a:custGeom>
            <a:avLst/>
            <a:gdLst/>
            <a:ahLst/>
            <a:rect l="l" t="t" r="r" b="b"/>
            <a:pathLst>
              <a:path w="1235" h="106">
                <a:moveTo>
                  <a:pt x="9207" y="18855"/>
                </a:moveTo>
                <a:cubicBezTo>
                  <a:pt x="9253" y="18916"/>
                  <a:pt x="9265" y="18953"/>
                  <a:pt x="9329" y="18960"/>
                </a:cubicBezTo>
                <a:cubicBezTo>
                  <a:pt x="9659" y="18998"/>
                  <a:pt x="10021" y="18959"/>
                  <a:pt x="10353" y="18958"/>
                </a:cubicBezTo>
                <a:cubicBezTo>
                  <a:pt x="10382" y="18958"/>
                  <a:pt x="10412" y="18958"/>
                  <a:pt x="10441" y="1895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9"/>
          <p:cNvSpPr/>
          <p:nvPr/>
        </p:nvSpPr>
        <p:spPr>
          <a:xfrm>
            <a:off x="5315040" y="6781680"/>
            <a:ext cx="3828960" cy="41400"/>
          </a:xfrm>
          <a:custGeom>
            <a:avLst/>
            <a:gdLst/>
            <a:ahLst/>
            <a:rect l="l" t="t" r="r" b="b"/>
            <a:pathLst>
              <a:path w="10639" h="112">
                <a:moveTo>
                  <a:pt x="14762" y="18950"/>
                </a:moveTo>
                <a:cubicBezTo>
                  <a:pt x="15220" y="18950"/>
                  <a:pt x="15675" y="18943"/>
                  <a:pt x="16132" y="18920"/>
                </a:cubicBezTo>
                <a:cubicBezTo>
                  <a:pt x="16385" y="18907"/>
                  <a:pt x="16633" y="18912"/>
                  <a:pt x="16886" y="18892"/>
                </a:cubicBezTo>
                <a:cubicBezTo>
                  <a:pt x="17394" y="18853"/>
                  <a:pt x="17912" y="18888"/>
                  <a:pt x="18421" y="18910"/>
                </a:cubicBezTo>
                <a:cubicBezTo>
                  <a:pt x="18579" y="18917"/>
                  <a:pt x="18735" y="18919"/>
                  <a:pt x="18893" y="18913"/>
                </a:cubicBezTo>
                <a:cubicBezTo>
                  <a:pt x="19146" y="18904"/>
                  <a:pt x="19398" y="18905"/>
                  <a:pt x="19651" y="18908"/>
                </a:cubicBezTo>
                <a:cubicBezTo>
                  <a:pt x="20089" y="18913"/>
                  <a:pt x="20526" y="18939"/>
                  <a:pt x="20964" y="18938"/>
                </a:cubicBezTo>
                <a:cubicBezTo>
                  <a:pt x="21925" y="18936"/>
                  <a:pt x="22890" y="18883"/>
                  <a:pt x="23849" y="18903"/>
                </a:cubicBezTo>
                <a:cubicBezTo>
                  <a:pt x="24153" y="18909"/>
                  <a:pt x="24457" y="18895"/>
                  <a:pt x="24760" y="18887"/>
                </a:cubicBezTo>
                <a:cubicBezTo>
                  <a:pt x="24932" y="18883"/>
                  <a:pt x="25105" y="18886"/>
                  <a:pt x="25277" y="18875"/>
                </a:cubicBezTo>
                <a:cubicBezTo>
                  <a:pt x="25328" y="18872"/>
                  <a:pt x="25349" y="18864"/>
                  <a:pt x="25400" y="1886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mportant Anti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George Mason"/>
          <p:cNvPicPr/>
          <p:nvPr/>
        </p:nvPicPr>
        <p:blipFill>
          <a:blip r:embed="rId1"/>
          <a:stretch/>
        </p:blipFill>
        <p:spPr>
          <a:xfrm>
            <a:off x="4038480" y="18288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amuel Adams"/>
          <p:cNvPicPr/>
          <p:nvPr/>
        </p:nvPicPr>
        <p:blipFill>
          <a:blip r:embed="rId2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mportant Anti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Henry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Patrick Henry"/>
          <p:cNvPicPr/>
          <p:nvPr/>
        </p:nvPicPr>
        <p:blipFill>
          <a:blip r:embed="rId1"/>
          <a:stretch/>
        </p:blipFill>
        <p:spPr>
          <a:xfrm>
            <a:off x="3505320" y="1295280"/>
            <a:ext cx="281916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Richard Henry Lee"/>
          <p:cNvPicPr/>
          <p:nvPr/>
        </p:nvPicPr>
        <p:blipFill>
          <a:blip r:embed="rId2"/>
          <a:stretch/>
        </p:blipFill>
        <p:spPr>
          <a:xfrm>
            <a:off x="6019920" y="411480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Federalist Pap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ederalist Pap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yed an importan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in the fight for ratification of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eries of essays supported the Constitution and were written anonymously under the nam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ctually written by Hamilton, Madison and J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atify-The Movi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Federalists___Anti_Federalists_.asf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21:58:18Z</dcterms:created>
  <dc:creator>jcps</dc:creator>
  <dc:description/>
  <dc:language>en-US</dc:language>
  <cp:lastModifiedBy>lcollin1</cp:lastModifiedBy>
  <dcterms:modified xsi:type="dcterms:W3CDTF">2010-12-06T20:59:33Z</dcterms:modified>
  <cp:revision>9</cp:revision>
  <dc:subject/>
  <dc:title>Ratifying the Constitution</dc:title>
</cp:coreProperties>
</file>